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3D97-D55F-4A95-8C26-5767FB21564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8852-0BFE-485B-83B5-3544F6E73384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9C80-41E4-4C62-9A1E-4A73E5E97FB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2867-145C-48E5-81B2-2B59199989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提示：在此处添加您的备注文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D307-BA71-4DFE-8CD0-19472FE5ECF0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DF03-A6F6-4A15-A5B7-AB2D679A008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DAC8-9383-401D-91B8-BD7B76FA14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B2E-0F0D-45E1-AE95-C4F8DAAA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49B-02A3-4B23-9812-6058D76C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998FA-BFDE-43C0-8922-B138C270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7D2F8-0A9F-4925-A398-F76761D4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2AEB8-E3EC-42C2-9FD1-C3122CB6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A853B-F0C5-4805-8B03-25874F03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6BFF8-FC36-4109-A6DC-E735AB17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494C6-B4F3-4BC1-B2D7-704F611C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4F1EC-D0C9-4755-98FC-1B4416F0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DDF1A-28D5-46AE-A957-AD9CA0E5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85051-F573-4C64-8EFA-83182A14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60F0D-4582-4DD0-B1E5-A3068395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D91-4503-40AB-B376-2EE4879F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89B1B-D537-4C96-B7AE-BEB6A5CD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E9AEC-3F5D-408A-BDEB-BB968246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3E7A5-58D2-4908-99A6-43D57988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FD647-A85B-48C4-B0C3-171E55B7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9DEC0-0CE2-4110-93B6-35461528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908FD-9E6A-44FD-AF16-75A95A2E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27EDC-7E91-43CA-815A-3CEA3530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1B63D-04C7-491B-BD0A-0AAFD116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6C9E9-83C2-40B9-8635-A15132AF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89DC2-251A-4B97-8120-55599592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ED6-A1E8-442C-8795-C5DD64A9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34775-A7DA-4401-BEB5-EE2ADAA5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20E30-509F-4EEF-B6FF-990E7266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0ABB1-B8C4-479F-8FF3-DF7A8A07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34CF5-C13E-4C81-8B7C-E0D028A5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A5079-FD49-4AF0-8ABE-43BBD2D1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AA027-DE36-4283-A074-A42F143B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9DAF0-6B7C-4468-8189-A486B5A3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702FC-459D-475D-A411-231D1254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84CCB-7830-4E04-BF87-0545AD60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40453-B0C6-4701-99E8-787B8B1C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DD18-22A9-43E1-A0AD-BCCAD646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F9D03-557D-4E80-B0CE-F100BD4F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22956-DA4D-4B26-A2B3-4FF31BCC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AFAA4-FAD3-4EC0-B27C-2F8893A7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D4E60-0131-4195-BEE2-27E64572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1494C-9E11-4F26-B17B-8C271CBC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25B6E-F523-4793-8595-0BC041AF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2725B-05B9-4F7C-BDE7-3ECE7F6A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18723-9D7F-4963-8122-4B5C51A4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15217-3E7D-4883-B42D-6D50A16C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A6013-461F-4675-B7CE-A3BF9EAB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1282-3EB8-407D-B0E1-62579033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EB824-DFF4-47F1-842F-7C9FA416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CD875-032D-4A55-AAA2-02A4E222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45C36-AA4E-4219-8CF0-4C61A621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2D241-6D21-4ED8-88AD-C62B988B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D5DA4-6732-478F-89B9-AC413D3B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ED22-D16F-4CE8-8EE7-0F05037E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D22B-B27E-43E3-91EA-2F2A4E03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7C02-1627-48C8-83D6-14CD6DDA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F699-0C3C-4E78-8DA0-329A22D2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3B88-22A5-4E07-806C-E4B204C5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CAD-4280-461C-9BA6-9F403B5B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C298-D681-4EBE-9F54-19B6BB2F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2D63-2297-4305-B199-1EB58864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C3CF-171F-4F2B-B1FC-F3A6084C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204F-1AE8-4460-8A73-6BC3BC88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5E4A-D37C-4DFD-9352-08E6D3FF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E4A0-0FD2-446F-B866-F08285BD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3F37-3A43-4D68-9372-63E381EA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9A5AC-D6EC-448C-A177-55A262D3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0C403-74BF-4338-8723-1B902006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A1FF8-A168-4EEC-9C94-B3C14A7E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F2F-FE43-4526-AA91-A67B0866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75F5-35F5-4015-A535-6483DEFF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E368B-2B8F-4EA2-8C9A-3A598AEA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E6FE4-5A1D-4F0E-B1AD-27D8B3B7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D616-59AF-4B7E-9658-BCC7ACD8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25DC2-CE8D-4B13-85F6-4B261C3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F1BB-4333-42F3-9D9F-1562A269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34F46-73A3-45E7-B6A5-726A3992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27768-A384-4C8A-94E0-E74FB3F0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EF40-2A64-462B-81D5-5FF7875F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D50E0-F1C4-4E23-98F1-05C7EFC3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9F7-BDF6-4ACB-81EF-B95444A2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3E01E-EAB3-41CF-B8D7-DCB9ADB2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D0BF3-8062-4655-8000-46033721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B1811-C44B-47C6-B4AD-CACA00E2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35670-8F82-4C85-BD60-70529C64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623B9-B507-4CA7-98AA-6A2FEB9F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9CD9D-1B42-46F1-8F14-AFAD49B6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0D4C2-B214-4C47-A4DB-1C5C8A52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B9ADB-1784-441D-8CCB-30192D1F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93570-88C6-434B-93EC-96FB0B4C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FB6D7-06CA-4D57-A8B4-CE4D3575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14C-60D0-4A69-A86D-6DEDB5A8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98C1-EF4D-4EE7-A0FD-5D181E80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CC361-817C-4F22-B351-CA9A4F04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31A0A-9664-47DD-AE15-D661D41D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6203A-41B3-4072-9114-ED5D0AE0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3CDBE-1DD2-4CB2-A6E9-55DB2F14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1F855-B806-48F4-93FF-DA7C0612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FA0F5-28F3-444A-8BF6-669C9B60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0080C-DF86-4AD1-9931-F6C61F3A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95E03-768C-45CE-8D51-B368B476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A4362-5F2B-47E9-AC32-01389E45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1DD-ED0C-4274-B490-49993175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C616C-5D50-4CE6-9981-05002E61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338A9-90A2-4531-BBE4-061749DE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F2C56-4E03-4F79-88F6-B40FE1F6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4A87E-327D-45A5-A6AD-E23B19EA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42148-B05F-4357-8D58-E2BF3A47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AB2CD-922B-41E5-B684-6BAEF501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C53CC-AD1B-41E4-A6F2-76C5AC29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7968E-6803-4905-B755-57675B2D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EDEE0-5319-41D5-8E59-9C9B6247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FE092-CE69-435B-9196-EBD1E089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84D-B80F-4857-A33C-FD3F4832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2971-71B2-4F23-BE0D-574A0667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B1E7A-8304-40E4-9703-0679A1C1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7EA99-A740-45E4-B81A-662C40FA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2A406-52BB-43B5-B024-58480F8C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87D8C-B695-419B-84B3-7BF8F6DB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9ECA4-E84B-4A8F-9AED-6429385D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EE405-1BC6-4D4B-948E-06327B98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55DDA-31F3-4AE3-A459-586575C4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77A95-5422-40D9-A483-F7F81082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D1277-66A6-4D26-AA40-DEB94BBA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7CF-3788-40E1-9DF6-2B2DE6B9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609E2-BF40-47D5-8D09-4009C81C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87D5D-A4FA-40AC-88CC-AFB941C5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5F359-61D2-42DB-BCFA-D134E056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DE719-2EAD-416C-BDD4-148531F8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AAC43-C45C-4C15-AD43-2F852476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087D5-636C-4DCD-BF3F-A9E8EC49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3B0B0-FFBE-4C38-BE73-7C8861AD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0C9BA-0AF3-416C-A131-D5C7F54D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2F0BC-B2B9-4D3A-A1E3-CDA3BB14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F2C45-4C55-442D-AEB3-525E4F17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379-3358-45AF-8DA0-16DEC637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34105-BAF7-4C02-B5D7-D8609705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1575B-DA37-476D-8AC4-30164933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292D2-468F-481E-A0BF-648280C4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48462-D7FC-4273-893E-D5EBD203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1588F-346C-40D3-B5A1-57A4144F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5B577-8B6E-4898-B29F-BA63A039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CA183-919E-4DB3-AEA1-25032A0D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5E302-F6CB-4AA7-A16B-21ACC74C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5C62A-7312-43F3-88D9-6A79E3CB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EDFF0-D934-4CF9-8694-55542AF8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4A00-99EE-4B0F-9759-1DE25B4970D9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6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8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F016-FD4C-4894-AD9E-4DFE66C0385C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7770-DD3F-4F16-8F4B-C9073ADC1CF5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2E19-9F5A-4539-8B16-8EE5F7151B10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581D-80D9-4FEF-9A52-186EF5A49C23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4BB6-66BC-4A47-8DBC-64B97C2BD3D3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41BC-FE69-4B82-8ABC-66ED967215AC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8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33560" y="0"/>
            <a:ext cx="8130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1495-342A-450C-B8B4-C867E6682028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732F-EC3E-43C6-86D2-0A1095284778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5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6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8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5BAF-B442-4EF9-BD36-42A8813B154B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0E61-C38E-4AFF-A1A3-18A59F70C182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747E-F4FB-4A15-9130-DBBD80555A04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43632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72314"/>
                </a:solidFill>
                <a:latin typeface="Gill Sans MT"/>
                <a:ea typeface="华文中宋"/>
              </a:rPr>
              <a:t>计算机引论考前串讲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431720" y="412380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梁野 副教授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2018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12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11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练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微型计算机中，运算器和控制器合称为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　         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逻辑部件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算术运算部件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微处理器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算术和逻辑部件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练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完整的计算机系统由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(     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组成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运算器、控制器、存储器、输入设备和输出设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主机和外部设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硬件系统和软件系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主机箱、显示器、键盘、鼠标、打印机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硬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完整的计算机系统由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Gill Sans MT"/>
                <a:ea typeface="华文中宋"/>
              </a:rPr>
              <a:t>运算器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Gill Sans MT"/>
                <a:ea typeface="华文中宋"/>
              </a:rPr>
              <a:t>控制器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Gill Sans MT"/>
                <a:ea typeface="华文中宋"/>
              </a:rPr>
              <a:t>存储器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Gill Sans MT"/>
                <a:ea typeface="华文中宋"/>
              </a:rPr>
              <a:t>输入设备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Gill Sans MT"/>
                <a:ea typeface="华文中宋"/>
              </a:rPr>
              <a:t>输出设备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组成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4" name="Picture 3" descr=""/>
          <p:cNvPicPr/>
          <p:nvPr/>
        </p:nvPicPr>
        <p:blipFill>
          <a:blip r:embed="rId1"/>
          <a:srcRect l="0" t="25359" r="0" b="14981"/>
          <a:stretch/>
        </p:blipFill>
        <p:spPr>
          <a:xfrm>
            <a:off x="1100160" y="2997360"/>
            <a:ext cx="7864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404280"/>
            <a:ext cx="749952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72314"/>
                </a:solidFill>
                <a:latin typeface="Gill Sans MT"/>
                <a:ea typeface="华文中宋"/>
              </a:rPr>
              <a:t>冯诺依曼机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434960" y="10015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运算器：对二进制数进行运算的部件。它在控制器的控制下执行程序中的指令，完成各种算术运算、逻辑运算、比较运算、移位运算以及字符运算等。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存储器：用来存储数据和程序的部件。内存、硬盘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控制器：是指挥计算机的各个部件按照指令的功能要求协调工作的部件。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输入设备：用于输入程序、数据、操作命令、图形、图像以及声音等信息。常用的输入设备有键盘、鼠标器、扫描仪、光笔、数字化仪以及语音输入装置等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输出设备：用于显示或打印程序、运算结果、文字、图形、图像等，也可以播放声音。常用的输出设备有显示器、打印机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XY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绘图仪以及声音播放装置等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硬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计算机有三类总线：控制总线 、地址总线、数据总线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现代计算机之所以能自动连续进行数据处理，主要因为具有存储程序的功能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计算机上插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U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盘的接口通常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USB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标准接口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MIPS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常用来描述计算机的运算速度，其含义是每秒钟执行百万条指令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硬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任何程序都必须加载到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Gill Sans MT"/>
                <a:ea typeface="华文中宋"/>
              </a:rPr>
              <a:t>内存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中才能被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执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微型计算机的主存容量主要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的容量，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代表的是随机存储器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31" name="Object 32"/>
          <p:cNvGraphicFramePr/>
          <p:nvPr/>
        </p:nvGraphicFramePr>
        <p:xfrm>
          <a:off x="2700360" y="3213000"/>
          <a:ext cx="424800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213000"/>
                    <a:ext cx="424800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软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计算机软件分为系统软件和应用软件两大类，其中处于核心地位的是系统软件，应用软件以系统软件为基础进行工作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软件生命周期中，确定软件系统必须做什么和必须具备哪些功能的阶段是需求分析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1434960" y="333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码值由小到大的一般顺序是控制符、特殊符号、数字、大写字母、小写字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6" name="Picture 2" descr="http://h.hiphotos.baidu.com/baike/c0%3Dbaike92%2C5%2C5%2C92%2C30/sign=a46b1bb9ffdcd100d991f07313e22c75/562c11dfa9ec8a13fc8be654f003918fa1ecc0f5.jpg"/>
          <p:cNvPicPr/>
          <p:nvPr/>
        </p:nvPicPr>
        <p:blipFill>
          <a:blip r:embed="rId1"/>
          <a:srcRect l="873" t="7553" r="873" b="4473"/>
          <a:stretch/>
        </p:blipFill>
        <p:spPr>
          <a:xfrm>
            <a:off x="1042920" y="1700280"/>
            <a:ext cx="80899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软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数据库中数据模型的三个组成部分是数据结构、数据操作和数据完整性约束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数据管理技术发展过程中，文件系统与数据库系统的重要区别是数据库具有特定的数据模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SQL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语句包括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SELECT 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INSERT 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UPDATE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三种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select 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*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from 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工资表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where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性别＝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"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女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" and 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工资额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&gt;=200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软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计算机系统中，可执行的程序是机器语言代码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计算机病毒是一种程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常见的图片存储格式包括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JPG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BMP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GI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RGB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模型能表示的颜色种数为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256*256*25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世界上第一台电子计算机诞生于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1946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年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现代计算一般都是电子数字计算机，计算机系统中处理的信息是数字信号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一个字由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位二进制位组成，而一个字的长度与微处理器芯片的型号有关，如“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32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位微机”中的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32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指的是机器字长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计算机信息计量单位中的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K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代表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ill Sans MT"/>
                <a:ea typeface="华文中宋"/>
              </a:rPr>
              <a:t>10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其它单位包括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M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G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T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软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一幅分辨率为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800×600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256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色图像文件大小为多少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因为量化级数为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所以图像的颜色深度为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故该图像文件大小为：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800×600×8÷8=480000 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四部分：程序与算法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语言编写的程序需要用编译程序翻译后计算机才能识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算法的基本结构包括选择结构、循环结构、顺序结构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算法的时间复杂度是指算法执行过程中所需要的基本运算次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572314"/>
              </a:solidFill>
              <a:latin typeface="Gill Sans MT"/>
              <a:ea typeface="华文中宋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设栈的初始状态为空，元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1,2,3,4,5,6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依次入栈。若出栈的次序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2,4,3,6,5,1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则栈的容量至少为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1187280" y="3848040"/>
          <a:ext cx="576360" cy="1854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1908000" y="3848040"/>
          <a:ext cx="576360" cy="1854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3348000" y="3854520"/>
          <a:ext cx="576360" cy="185400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4067280" y="3854520"/>
          <a:ext cx="576000" cy="185400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4788000" y="3862440"/>
          <a:ext cx="576000" cy="185400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5508720" y="3848040"/>
          <a:ext cx="576000" cy="185436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6227640" y="3840120"/>
          <a:ext cx="576360" cy="1854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6948360" y="3840120"/>
          <a:ext cx="576360" cy="1854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2627280" y="3851280"/>
          <a:ext cx="576360" cy="1854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7709040" y="3840120"/>
          <a:ext cx="576000" cy="185436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8450280" y="3848040"/>
          <a:ext cx="576360" cy="1854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572314"/>
              </a:solidFill>
              <a:latin typeface="Gill Sans MT"/>
              <a:ea typeface="华文中宋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有一颗二叉树，中序遍历的结果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(a-b)*(c+d)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则后序遍历的结果可能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b-cd+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椭圆 3"/>
          <p:cNvSpPr/>
          <p:nvPr/>
        </p:nvSpPr>
        <p:spPr>
          <a:xfrm>
            <a:off x="5011560" y="3054240"/>
            <a:ext cx="72108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1" name="椭圆 4"/>
          <p:cNvSpPr/>
          <p:nvPr/>
        </p:nvSpPr>
        <p:spPr>
          <a:xfrm>
            <a:off x="3419640" y="3933720"/>
            <a:ext cx="720720" cy="574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椭圆 5"/>
          <p:cNvSpPr/>
          <p:nvPr/>
        </p:nvSpPr>
        <p:spPr>
          <a:xfrm>
            <a:off x="6588000" y="3933720"/>
            <a:ext cx="720720" cy="574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椭圆 6"/>
          <p:cNvSpPr/>
          <p:nvPr/>
        </p:nvSpPr>
        <p:spPr>
          <a:xfrm>
            <a:off x="2700360" y="5091120"/>
            <a:ext cx="71928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椭圆 7"/>
          <p:cNvSpPr/>
          <p:nvPr/>
        </p:nvSpPr>
        <p:spPr>
          <a:xfrm>
            <a:off x="4140360" y="5091120"/>
            <a:ext cx="71892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椭圆 8"/>
          <p:cNvSpPr/>
          <p:nvPr/>
        </p:nvSpPr>
        <p:spPr>
          <a:xfrm>
            <a:off x="5867280" y="5091120"/>
            <a:ext cx="72072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6" name="椭圆 9"/>
          <p:cNvSpPr/>
          <p:nvPr/>
        </p:nvSpPr>
        <p:spPr>
          <a:xfrm>
            <a:off x="7308720" y="5091120"/>
            <a:ext cx="71928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直接连接符 11"/>
          <p:cNvSpPr/>
          <p:nvPr/>
        </p:nvSpPr>
        <p:spPr>
          <a:xfrm flipH="1">
            <a:off x="4033800" y="3544920"/>
            <a:ext cx="1084320" cy="473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直接连接符 13"/>
          <p:cNvSpPr/>
          <p:nvPr/>
        </p:nvSpPr>
        <p:spPr>
          <a:xfrm>
            <a:off x="5626080" y="3544920"/>
            <a:ext cx="1066680" cy="473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直接连接符 15"/>
          <p:cNvSpPr/>
          <p:nvPr/>
        </p:nvSpPr>
        <p:spPr>
          <a:xfrm flipH="1">
            <a:off x="3059280" y="4424400"/>
            <a:ext cx="466560" cy="6667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直接连接符 18"/>
          <p:cNvSpPr/>
          <p:nvPr/>
        </p:nvSpPr>
        <p:spPr>
          <a:xfrm>
            <a:off x="4033800" y="4424400"/>
            <a:ext cx="466920" cy="6667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直接连接符 20"/>
          <p:cNvSpPr/>
          <p:nvPr/>
        </p:nvSpPr>
        <p:spPr>
          <a:xfrm flipH="1">
            <a:off x="6227640" y="4424400"/>
            <a:ext cx="465120" cy="6667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直接连接符 22"/>
          <p:cNvSpPr/>
          <p:nvPr/>
        </p:nvSpPr>
        <p:spPr>
          <a:xfrm>
            <a:off x="7202520" y="4424400"/>
            <a:ext cx="465120" cy="6667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四部分：算法与程序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指令和程序有何区别？计算机执行指令的过程是如何完成的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指令：指令是能被计算机识别并执行的的二进制代码，完成某一种操作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程序：是指令和数据的集合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执行指令应该分为四步：取指令、分析指令、执行指令、一条指令执行完成后，程序计数器自动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或将转移地址码送入程序计数器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五部分：网络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协议是不同系统同层对等实体之间的规则和标准，在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Internet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上用于收发电子邮件的协议是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POP3/SMT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不同的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Internet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接入方式具有不同的连接速度，其中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Modem&lt;ISDN&lt;ADSL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的速度。传输速率的单位是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bps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其含义是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Bits Per Sec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调制解调器（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Modem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）的功能是实现数字信号与模拟信号的转换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五部分：网络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用以太网形式构成的局域网的拓扑结构为总线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局域网与广域网的互联一般通过路由器设备实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目前使用的网络传输介质中，传输速率最高的是光纤，此外常用的还有同轴电缆 、双绞线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密码学包括密码编码学和密码分析学两个分支，用于进行数字签名的加密算法是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R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五部分：网络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什么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地址、什么是域名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TCP/IP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协议中的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部分定义了能够标识因特网上计算机的地址格式，称为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一个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地址由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个点分为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部分，采用点分十进制数法表示，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202.204.128.9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每部分为一个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位组，有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~255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共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中表示方法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域名：代替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地址进行表示的名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六部分：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Office</a:t>
            </a: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应用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文档所见即所得的视图是页面视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Excel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表的单元格中计算一组数据后出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########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是由于单元格显示宽度不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若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Excel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的同一单元格中输入的文本有两个段落，则第一段落输完后应使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lt+Enter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键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制作的演示文稿默认的扩展名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pptx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Excel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xls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doc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六部分：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Office</a:t>
            </a: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应用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Excel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中的常用函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MAX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MIN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SUM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VERAGE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IF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OUNT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OUNTIF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中使用自定义动画时，各种对象均可设置动画，同时还可配置声音，还可将对象设置成播放后隐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练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世界上第一台电子计算机诞生于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　     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. 1941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年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B. 1946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年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. 1949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年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D. 1950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谢谢！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018</a:t>
            </a:r>
            <a:r>
              <a:rPr b="0" lang="zh-CN" sz="4000" spc="-1" strike="noStrike">
                <a:solidFill>
                  <a:srgbClr val="000000"/>
                </a:solidFill>
                <a:latin typeface="Gill Sans MT"/>
                <a:ea typeface="华文中宋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  <a:ea typeface="华文中宋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Gill Sans MT"/>
                <a:ea typeface="华文中宋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  <a:ea typeface="华文中宋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Gill Sans MT"/>
                <a:ea typeface="华文中宋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练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微处理器处理的数据基本单位为字。一个字的长度通常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(        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. 16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个二进制位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B. 32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个二进制位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. 64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个二进制位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与微处理器芯片的型号有关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十、二、八及十六进制的简单数的表示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74" name="Object 28"/>
          <p:cNvGraphicFramePr/>
          <p:nvPr/>
        </p:nvGraphicFramePr>
        <p:xfrm>
          <a:off x="1258920" y="2246400"/>
          <a:ext cx="7561080" cy="37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46400"/>
                    <a:ext cx="756108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十进制数         变换成的二进制数是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54"/>
              <p:cNvSpPr txBox="1"/>
              <p:nvPr/>
            </p:nvSpPr>
            <p:spPr>
              <a:xfrm>
                <a:off x="3419640" y="1700280"/>
                <a:ext cx="647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579" name="Object 55"/>
          <p:cNvGraphicFramePr/>
          <p:nvPr/>
        </p:nvGraphicFramePr>
        <p:xfrm>
          <a:off x="7451640" y="1662120"/>
          <a:ext cx="129708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662120"/>
                    <a:ext cx="12970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Rectangle 3"/>
          <p:cNvSpPr/>
          <p:nvPr/>
        </p:nvSpPr>
        <p:spPr>
          <a:xfrm>
            <a:off x="1212840" y="2416320"/>
            <a:ext cx="519588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67......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余数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33......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余数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16......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余数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8 ......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余数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4 ......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余数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2 ......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余数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（此处不再除）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82" name="Group 23"/>
          <p:cNvGrpSpPr/>
          <p:nvPr/>
        </p:nvGrpSpPr>
        <p:grpSpPr>
          <a:xfrm>
            <a:off x="2340000" y="2492280"/>
            <a:ext cx="3091320" cy="2736360"/>
            <a:chOff x="2340000" y="2492280"/>
            <a:chExt cx="3091320" cy="2736360"/>
          </a:xfrm>
        </p:grpSpPr>
        <p:grpSp>
          <p:nvGrpSpPr>
            <p:cNvPr id="583" name="Group 5"/>
            <p:cNvGrpSpPr/>
            <p:nvPr/>
          </p:nvGrpSpPr>
          <p:grpSpPr>
            <a:xfrm>
              <a:off x="2340000" y="2492280"/>
              <a:ext cx="3091320" cy="466920"/>
              <a:chOff x="2340000" y="2492280"/>
              <a:chExt cx="3091320" cy="466920"/>
            </a:xfrm>
          </p:grpSpPr>
          <p:sp>
            <p:nvSpPr>
              <p:cNvPr id="584" name="Line 6"/>
              <p:cNvSpPr/>
              <p:nvPr/>
            </p:nvSpPr>
            <p:spPr>
              <a:xfrm>
                <a:off x="2340000" y="249228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585" name="Line 7"/>
              <p:cNvSpPr/>
              <p:nvPr/>
            </p:nvSpPr>
            <p:spPr>
              <a:xfrm>
                <a:off x="2340000" y="2945520"/>
                <a:ext cx="30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86" name="Group 8"/>
            <p:cNvGrpSpPr/>
            <p:nvPr/>
          </p:nvGrpSpPr>
          <p:grpSpPr>
            <a:xfrm>
              <a:off x="2340000" y="2946600"/>
              <a:ext cx="3091320" cy="466920"/>
              <a:chOff x="2340000" y="2946600"/>
              <a:chExt cx="3091320" cy="466920"/>
            </a:xfrm>
          </p:grpSpPr>
          <p:sp>
            <p:nvSpPr>
              <p:cNvPr id="587" name="Line 9"/>
              <p:cNvSpPr/>
              <p:nvPr/>
            </p:nvSpPr>
            <p:spPr>
              <a:xfrm>
                <a:off x="2340000" y="294660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588" name="Line 10"/>
              <p:cNvSpPr/>
              <p:nvPr/>
            </p:nvSpPr>
            <p:spPr>
              <a:xfrm>
                <a:off x="2340000" y="3399840"/>
                <a:ext cx="30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89" name="Group 11"/>
            <p:cNvGrpSpPr/>
            <p:nvPr/>
          </p:nvGrpSpPr>
          <p:grpSpPr>
            <a:xfrm>
              <a:off x="2340000" y="3400920"/>
              <a:ext cx="3091320" cy="464040"/>
              <a:chOff x="2340000" y="3400920"/>
              <a:chExt cx="3091320" cy="464040"/>
            </a:xfrm>
          </p:grpSpPr>
          <p:sp>
            <p:nvSpPr>
              <p:cNvPr id="590" name="Line 12"/>
              <p:cNvSpPr/>
              <p:nvPr/>
            </p:nvSpPr>
            <p:spPr>
              <a:xfrm>
                <a:off x="2340000" y="3400920"/>
                <a:ext cx="0" cy="46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591" name="Line 13"/>
              <p:cNvSpPr/>
              <p:nvPr/>
            </p:nvSpPr>
            <p:spPr>
              <a:xfrm>
                <a:off x="2340000" y="3851280"/>
                <a:ext cx="30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92" name="Group 14"/>
            <p:cNvGrpSpPr/>
            <p:nvPr/>
          </p:nvGrpSpPr>
          <p:grpSpPr>
            <a:xfrm>
              <a:off x="2340000" y="3852360"/>
              <a:ext cx="3091320" cy="466920"/>
              <a:chOff x="2340000" y="3852360"/>
              <a:chExt cx="3091320" cy="466920"/>
            </a:xfrm>
          </p:grpSpPr>
          <p:sp>
            <p:nvSpPr>
              <p:cNvPr id="593" name="Line 15"/>
              <p:cNvSpPr/>
              <p:nvPr/>
            </p:nvSpPr>
            <p:spPr>
              <a:xfrm>
                <a:off x="2340000" y="385236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594" name="Line 16"/>
              <p:cNvSpPr/>
              <p:nvPr/>
            </p:nvSpPr>
            <p:spPr>
              <a:xfrm>
                <a:off x="2340000" y="4305600"/>
                <a:ext cx="30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95" name="Group 17"/>
            <p:cNvGrpSpPr/>
            <p:nvPr/>
          </p:nvGrpSpPr>
          <p:grpSpPr>
            <a:xfrm>
              <a:off x="2340000" y="4307400"/>
              <a:ext cx="3091320" cy="466200"/>
              <a:chOff x="2340000" y="4307400"/>
              <a:chExt cx="3091320" cy="466200"/>
            </a:xfrm>
          </p:grpSpPr>
          <p:sp>
            <p:nvSpPr>
              <p:cNvPr id="596" name="Line 18"/>
              <p:cNvSpPr/>
              <p:nvPr/>
            </p:nvSpPr>
            <p:spPr>
              <a:xfrm>
                <a:off x="2340000" y="4307400"/>
                <a:ext cx="0" cy="46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597" name="Line 19"/>
              <p:cNvSpPr/>
              <p:nvPr/>
            </p:nvSpPr>
            <p:spPr>
              <a:xfrm>
                <a:off x="2340000" y="4759920"/>
                <a:ext cx="30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98" name="Group 20"/>
            <p:cNvGrpSpPr/>
            <p:nvPr/>
          </p:nvGrpSpPr>
          <p:grpSpPr>
            <a:xfrm>
              <a:off x="2340000" y="4761720"/>
              <a:ext cx="3091320" cy="466920"/>
              <a:chOff x="2340000" y="4761720"/>
              <a:chExt cx="3091320" cy="466920"/>
            </a:xfrm>
          </p:grpSpPr>
          <p:sp>
            <p:nvSpPr>
              <p:cNvPr id="599" name="Line 21"/>
              <p:cNvSpPr/>
              <p:nvPr/>
            </p:nvSpPr>
            <p:spPr>
              <a:xfrm>
                <a:off x="2340000" y="476172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00" name="Line 22"/>
              <p:cNvSpPr/>
              <p:nvPr/>
            </p:nvSpPr>
            <p:spPr>
              <a:xfrm>
                <a:off x="2340000" y="5214960"/>
                <a:ext cx="30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求：          的二进制数（精度为小数点后取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位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解：乘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          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纯小数部分       整数部分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123×2              0.246              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246×2              0.492              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492×2              0.984              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984×2              1.968             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968×2              1.936             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936×2              1.872             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872×2              1.744             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744×2              1.488             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结果为：               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54"/>
              <p:cNvSpPr txBox="1"/>
              <p:nvPr/>
            </p:nvSpPr>
            <p:spPr>
              <a:xfrm>
                <a:off x="3384720" y="5516640"/>
                <a:ext cx="1800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11111</m:t>
                            </m:r>
                          </m:e>
                        </m:d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55"/>
              <p:cNvSpPr txBox="1"/>
              <p:nvPr/>
            </p:nvSpPr>
            <p:spPr>
              <a:xfrm>
                <a:off x="2411280" y="1484280"/>
                <a:ext cx="936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假定某台计算机的机器数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位，则十进制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-23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的原码、反码和补码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[-23]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原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= 1001011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[-23]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反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= 11101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[-23]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补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= 1110100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4"/>
          <p:cNvSpPr/>
          <p:nvPr/>
        </p:nvSpPr>
        <p:spPr>
          <a:xfrm>
            <a:off x="1073160" y="692280"/>
            <a:ext cx="79628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运算器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中央处理单元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CPU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寄存器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控制器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主机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硬件系统                                                只读存储器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ROM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主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内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存储器       随机读写存储器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SRAM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DRAM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高速缓冲存储器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Cache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CMOS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外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辅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存储器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软盘、硬盘、光盘、闪存等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)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外围设备     输入设备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键盘、鼠标、扫描仪等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输出设备（显示器、打印机、绘图仪等）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其它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网卡、调制解调器、多媒体设备等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)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操作系统：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UNIX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Linux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等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系统软件    语言处理程序：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Pascal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VB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等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实用程序：诊断程序、排错程序等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软件系统                          数据库管理系统等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-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各种专用软件包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Office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系列软件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)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应用软件     各种面向社会的应用程序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1577880" y="1916280"/>
            <a:ext cx="360360" cy="316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82440 h 3168360"/>
              <a:gd name="textAreaBottom" fmla="*/ 3085920 h 31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2728800" y="1628640"/>
            <a:ext cx="289080" cy="1727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3521160" y="1123920"/>
            <a:ext cx="360360" cy="10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AutoShape 8"/>
          <p:cNvSpPr/>
          <p:nvPr/>
        </p:nvSpPr>
        <p:spPr>
          <a:xfrm>
            <a:off x="5610240" y="76356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3808440" y="3068640"/>
            <a:ext cx="288720" cy="792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AutoShape 10"/>
          <p:cNvSpPr/>
          <p:nvPr/>
        </p:nvSpPr>
        <p:spPr>
          <a:xfrm>
            <a:off x="2873520" y="4508640"/>
            <a:ext cx="360360" cy="1295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4025880" y="4292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AutoShape 12"/>
          <p:cNvSpPr/>
          <p:nvPr/>
        </p:nvSpPr>
        <p:spPr>
          <a:xfrm>
            <a:off x="4170240" y="5445000"/>
            <a:ext cx="142920" cy="43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1050120" y="1917720"/>
            <a:ext cx="4546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电子计算机系统结构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5249880" y="1916280"/>
            <a:ext cx="287280" cy="7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3:15:20Z</dcterms:created>
  <dc:creator/>
  <dc:description/>
  <dc:language>en-US</dc:language>
  <cp:lastModifiedBy/>
  <dcterms:modified xsi:type="dcterms:W3CDTF">2018-12-12T01:23:3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822959990</vt:lpwstr>
  </property>
</Properties>
</file>