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35C5-84E7-4980-8A8F-849DD1B4333A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184D-F60F-4117-9983-AF8B9A9C652A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4E42-9BA7-4949-8CBD-60672272555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033D-864C-4226-BEAB-51ADEFF0034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4183-05FA-439C-AC76-04520602E9F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EF23-AB13-4BCD-835D-2B178B79B3B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7421-852A-4D82-B3C5-1882F1291EA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5C07-30FC-4848-B6F7-6C0030EFB92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7B70-AB27-43A3-A3EC-7415CF908F3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thi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用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tati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方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5481-F39D-486C-B157-479405F0BE2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02E7-B890-43C1-BEB6-ACCA7842493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0560-A548-4230-819D-C8A758BB6C5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7A1D-5578-4D72-AABF-F51338DC0C6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18C6-2773-4DBA-B4D6-4844B0D0270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00B6-DF3D-4EB5-965A-1D262DC886D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3BA6-9B19-4438-BD54-7CACE9BADD6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BF9C-B8BF-4F09-B8C4-D6B749B78A1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类体中的数据成员的声明前加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tati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关键字，该数据成员就成为了该类的静态数据成员。静态成员是可以独立访问的，无须创建任何对象实例就可以访问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ns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值是保持不变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2794-0F07-4C65-AF4E-E711819138B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6697-0B8F-4503-8058-9299B9450F3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8C42-223E-4DCE-B2AC-DD7A61E1A3B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7200-A052-4561-BD0B-A98D556EF87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++ const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允许指定一个语义约束，编译器会强制实施这个约束，允许程序员告诉编译器某值是保持不变的。如果在编程中确实有某个值保持不变，就应该明确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ns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这样可以获得编译器的帮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ns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饰指针变量时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有一个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ns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如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ns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位于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左侧，表示指针所指数据是常量，不能通过解引用修改该数据；指针本身是变量，可以指向其他的内存单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有一个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ns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如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ns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位于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右侧，表示指针本身是常量，不能指向其他内存地址；指针所指的数据可以通过解引用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两个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ns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左右各一个，表示指针和指针所指数据都不能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8BF0-1E9E-4808-9718-C3611C9C368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7950-BBCD-465A-910F-B59E5CE8E86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1FBC-8A8A-42AB-9561-F38197327D6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55C3-CCE2-4ADA-A5FD-025683602F4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载函数是函数的一种特殊情况，为方便使用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++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允许在同一范围中声明几个功能类似的同名函数，但是这些同名函数的形式参数（指参数的个数、类型或者顺序）必须不同，也就是说用同一个运算符完成不同的运算功能。这就是重载函数。重载函数常用来实现功能类似而所处理的数据类型不同的问题。不能只有函数返回值类型不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B0FF-8BC5-4983-8CA4-D068AA8B0C9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B643-1453-4430-A7F6-9FDB52CD078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E395-2A71-4D98-ABAE-5947E899ECE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2EE9-A900-46B3-928C-91C7FCDD206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B173-7379-4CFD-ADA2-623097E71B9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9CDC-6D05-469E-AFC0-CF46D36D0D7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1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 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ns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饰一个函数，表明其是一个常成员函数，不能修改类的成员变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 构造函数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R(int r1,int r2)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析构函数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~R(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 程序运行的结果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: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;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135F-E488-4BE0-9F41-DB8B1E2E18D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ACE3-75D5-491B-95F4-F471EEC765A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A3AB-6C1B-4258-B2D1-9CC0337A4F5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4565-6D24-4BCE-9509-19C9126AE06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EE6F-8876-4CF5-8B7B-984B41F75CF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9EDD-C5EB-4C24-B435-6F1FBB4D3C5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36C9-A1DD-4440-B6F8-AB7D67F0DC3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1B44-2D36-4D5D-9F4E-4B1CD2A8052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F313-A616-42AD-8763-DAC5FE74DF3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4001-C426-4B05-8FCA-36EDC4E6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DA38-1DC6-4829-B659-C79DDE51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104BE-C22C-4F2A-B571-1E06F254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EBDF1-70CE-4349-8F22-B7FA3EFE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762E7-C7E1-4489-83FF-777FD456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0320E-00AF-422B-ABB3-B8F856A8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C434D-1B99-439B-930E-31C700E7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9C288-C974-4443-8D84-417BFD1E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F319A-AA9A-43FB-84E4-48D762BD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8D428-1BD7-47E7-89C0-1F23E0DA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4818B-8479-4219-BBFF-65C549DA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FA7A3-9FE3-469D-A049-B7AA87A52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EEBF-4B1D-466E-9675-D6A6C9115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5BCE2-2733-4CEF-850A-8BADB284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0B7C2-806D-4038-87F5-D9875549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A8B84-84B6-4488-AC76-04B28A3E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038F6-405B-431D-99FB-429E326E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6311B-CFD2-4904-BF43-7FDE2AC0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930ADF-653D-4354-8EE1-FA8E3A76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0228D-DBB9-4494-A8B2-F8FB1CCC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71918-662D-422A-A8A9-C5160B4C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2C563C-B269-4B9E-8457-F0424EEF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F7B68-CE2E-4E2A-9524-BA2F0105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6DB7-D54C-443A-8B2D-73B61EAB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53C9E-10EA-48CE-8C71-C3D857C0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CEF99-E9B0-4361-8CAA-790279113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ADB1A-DDD0-4B76-A786-22F8C6F4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48063-5364-4B7E-B680-9397BF10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DFBAB-A75E-4812-A20A-9D36BF76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D4221-F226-49A1-B5C6-F34DD41D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8BA6C-B90A-43B3-BB68-3F07B844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10C46-2356-4E83-AF8B-2801DD78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4C524-87FA-46D2-B471-509DB048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9B27F-AA6F-4A75-A23E-86204CD9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E2DF-AA9F-4A4C-A44C-D7E69C5B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E5910-7334-44A9-8229-47E751F1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72CE1-4744-4D21-95B4-0ED00862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8EE19-1328-462F-A70F-60FBA5675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21F807-EF53-4AA1-BECE-3860E87BD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FA982D-9AF1-4BA6-9A89-F7F0AE35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1D09F3-FDB6-4C0D-9FA5-16F89104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7516D3-4840-45F8-9555-F0D72118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42859-5B35-4182-ABDF-D3A877C0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6628B-2986-4708-93E7-B4EC8A88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3B2B6-54F4-46E0-A3A1-0125BDD8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66F4-4105-4610-829D-EF92CACC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E48E4B-F8BA-4351-B9DF-0ABAE5C8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DFD581-3E79-4542-BE6C-DACD4ADD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93BC4-9027-432C-BF83-9A1ECCA2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AE6068-DABA-4F51-8EAF-7C15CF50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0BC22-F218-4E72-9816-B6B191347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4CC4-A844-4750-B5DA-1A685E81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C748-9D87-484F-AD11-9B57EE37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BCB9-8BD9-42DB-BDFF-145D0931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EBBA-B4B3-459C-9B8C-A041016E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2770-C90C-4B10-8066-317EE22E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6D1F-6F25-492D-BEC1-D40B3062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BE60-6ED2-4A87-979D-4D6B274B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BE6F-994E-48F3-8C69-EDD96E0D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03E2-02E2-4200-BF41-F298E6C3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0143-2C21-453E-B898-3FEFD1DC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8CA3-51BD-44BF-BAEB-27934A27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2C2F2-2DCE-457F-B363-03D5C406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A88F1-57C8-4A74-8BA6-8D588C99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51AE1-E3C3-4756-8E3B-7718D216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3BC6F-C13D-4BE8-B887-4EE83629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EEC1E-3F88-4DC9-8474-F560E44E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1454-E9CE-4004-AAE8-60A21ECB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16E41-96B8-4A4A-9F99-BEFE6400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047E9-8A1C-4153-8A50-35520D9D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7F8FF-08D6-4FE4-A3FE-F4263789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3AABA-5AB1-4C72-92DC-13AF9E22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A84F7-B2C7-4ACD-BD7B-09B3D466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4704A-FB77-43C5-A8E5-B82DE28A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154F7-6BD7-427A-8D62-FBC6C01FD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228D0-5983-48CA-8618-2ACA5D5A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EE4A4-D164-4921-B35C-512FB12B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AA1BE-8ADC-4D41-BA97-C459C542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1A50-4CFB-4E7C-9639-D7BAED63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5B937-7297-47BA-87E0-C91F48CE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41AFB-DCF8-4EF5-8460-A70EBD6C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6666F-D486-47E1-A26B-998335E3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6679D-D246-4AE9-A709-E54E50E9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C96D8-64F1-448A-8652-8E1FF8EE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49A03-2302-4289-8A50-E43B26E6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3A950-0E77-4596-B5DC-DE88FE4F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99602-6C06-4B2B-B206-7C5A22B0F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C77C8-F8F7-4B54-AB92-49FF91497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26098-02D2-4E76-87A6-0BC82AB0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1B0A-1148-441C-99F5-7D9EAF27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AB440-1B0F-4136-A20A-8A68A5FE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46486-16C3-4746-BB07-E52BB3D6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E4C22-88A9-483C-BF8C-442B00D2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A9280-D794-460E-9941-B9744266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C23A4-B9E6-4DA4-966A-7D6BBE7E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82572-5349-4E4C-B376-7B4894F4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AD840-8D74-4FB9-85C3-668029E5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D2F6C-191A-4145-9175-C67A715E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79800-B96F-4479-ABF5-257C6C58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ADBD8-87C3-4C5D-8F34-A624DBD00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E7CB-CEA3-47F1-B4A5-CF84CCB1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C2DF4-698C-425C-9698-0D05A153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2492B-BC9A-4271-8F00-EFE51EDD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E93DA-52A3-487E-AB1D-7951FDCD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BA7AD-2F85-45A2-9582-A606E038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13C33-6BF2-4CAF-9F02-CBAB212F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3CB20-2180-408F-B9C6-F9BC8750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30716-B184-4400-A5D2-680CF4FA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C48C1-05D5-4059-A204-55B93E52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92488-8B25-41BA-A197-CECE1AF7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29058-DDFA-4579-A918-A0F50168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0FDA-D962-4BE1-8573-B31C2641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A50F3-268A-4F09-8332-BDEB394B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A93E6-6FDA-4937-BE8C-D6CD7380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54627-1DE7-4AED-A8A7-A8D23EA7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247AC-81BC-48CF-A155-73D3269E6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11510-77C6-49D2-B05A-710BB019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F7D2D-B666-4268-B656-4CAB8ABE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97D55-2FBA-4B9F-9152-A29AAEB8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15A66-370E-4C8D-8BDC-E6C87EDD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8A87F-902F-488A-847B-6AA26B9C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6C790-74B4-4402-8DEA-8CC9FC82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FB19-54F8-47C1-B8B8-2FC89CE8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25775-73C4-48F6-B944-85F0C100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60401-EF74-4574-A1D3-09837DF5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984DE-EBAB-417E-967C-BFF8470B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51ED9-669B-4B44-90EE-14099A1F8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8B64B-F4E2-4387-90A2-C9AB43C9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62DD4-D255-42AB-AA64-4CD0D1A8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70625-A9C1-4825-8C6D-D0FD2DBC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E3D59-387F-438F-B66F-B2EAAE75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DD390-AAE7-4821-842B-7FC564C8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24EC5-2C8F-4F9D-ADC4-3F3D932C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3B06-A1DD-47DA-B1A0-40D477BA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F9E0F-70B7-4D67-A262-93AA8381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500CC-66E9-4BAA-AE04-70A322CF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0A1F1-184A-4050-87E3-873E8342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A5F80-D6E4-4965-A494-918311B6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BD13E-FBAB-49C9-9250-78F49BE7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8841E-C4CA-4FB4-8102-538142D28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3FFE0-87C0-41C5-972C-B37952B4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0B8BC-7434-4848-BF13-BE9837D0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F138F-3B39-40E9-82FE-45E621FD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41C83-48D8-4F1E-A95E-3CC487DC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E5E9-FBF2-4C01-B44C-F8B26A9F98FA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Rectangle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6" name="Rectangle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18" name="Flowchart: Process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Flowchart: Process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6E21-7F24-4FB5-B85C-71A78DED17CC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63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4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6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0DED-D194-4C59-A34B-AABFB8E9B771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11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2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14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834F-EC30-4314-84A2-D98BA29858EF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0D7A-045E-413E-BF90-BE20AE0932A4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8B55-3605-4277-8A9D-296AE8639989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50" name="Oval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Oval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53" name="Oval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1028-EFBA-48F0-9CEE-47C12B34B956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ie 8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Oval 9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7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00" name="Rectangle 11"/>
          <p:cNvSpPr/>
          <p:nvPr/>
        </p:nvSpPr>
        <p:spPr>
          <a:xfrm>
            <a:off x="1033560" y="0"/>
            <a:ext cx="81309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0C05-3A35-4227-ABF5-12DA1CF121BF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D35C-E3E8-4B6E-A91B-95314E7221BA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85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6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88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062F-B5EC-4908-9781-1F273108D64F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922C-9A9B-4121-B7CC-FE519AED3FE7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760C-26AF-48CF-8000-10A203F8D23E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434960" y="43632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72314"/>
                </a:solidFill>
                <a:latin typeface="Gill Sans MT"/>
                <a:ea typeface="华文中宋"/>
              </a:rPr>
              <a:t>面向对象技术</a:t>
            </a:r>
            <a:r>
              <a:rPr b="0" lang="en-US" sz="4400" spc="-1" strike="noStrike">
                <a:solidFill>
                  <a:srgbClr val="572314"/>
                </a:solidFill>
                <a:latin typeface="Gill Sans MT"/>
                <a:ea typeface="华文中宋"/>
              </a:rPr>
              <a:t>C++</a:t>
            </a:r>
            <a:r>
              <a:rPr b="0" lang="zh-CN" sz="4400" spc="-1" strike="noStrike">
                <a:solidFill>
                  <a:srgbClr val="572314"/>
                </a:solidFill>
                <a:latin typeface="Gill Sans MT"/>
                <a:ea typeface="华文中宋"/>
              </a:rPr>
              <a:t>考前串讲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1431720" y="412380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20e04"/>
                </a:solidFill>
                <a:latin typeface="Gill Sans MT"/>
                <a:ea typeface="华文中宋"/>
              </a:rPr>
              <a:t>梁野 副教授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7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7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  <a:ea typeface="华文中宋"/>
              </a:rPr>
              <a:t>2018</a:t>
            </a:r>
            <a:r>
              <a:rPr b="0" lang="zh-CN" sz="2600" spc="-1" strike="noStrike">
                <a:solidFill>
                  <a:srgbClr val="320e04"/>
                </a:solidFill>
                <a:latin typeface="Gill Sans MT"/>
                <a:ea typeface="华文中宋"/>
              </a:rPr>
              <a:t>年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  <a:ea typeface="华文中宋"/>
              </a:rPr>
              <a:t>12</a:t>
            </a:r>
            <a:r>
              <a:rPr b="0" lang="zh-CN" sz="2600" spc="-1" strike="noStrike">
                <a:solidFill>
                  <a:srgbClr val="320e04"/>
                </a:solidFill>
                <a:latin typeface="Gill Sans MT"/>
                <a:ea typeface="华文中宋"/>
              </a:rPr>
              <a:t>月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  <a:ea typeface="华文中宋"/>
              </a:rPr>
              <a:t>06</a:t>
            </a:r>
            <a:r>
              <a:rPr b="0" lang="zh-CN" sz="2600" spc="-1" strike="noStrike">
                <a:solidFill>
                  <a:srgbClr val="320e04"/>
                </a:solidFill>
                <a:latin typeface="Gill Sans MT"/>
                <a:ea typeface="华文中宋"/>
              </a:rPr>
              <a:t>日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四章 运算符重载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7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载双目运算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8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数组类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9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类型之间的转换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10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字符串类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11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载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++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运算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++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前缀和后缀两种重载方式的不同方法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12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期类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五章 继承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1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承的基本概念：意义、基类和派生类的概念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2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基类和派生类：类的层次结构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ubl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承方式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3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保护的成员：：类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rotect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员对派生类的可访问性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把基类指针强制转换为派生类指针：两者间类型转换关系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5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成员函数：基类成员对派生类的可访问性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6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派生类中重定义基类成员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五章 继承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5.7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公有的、受保护的和私有的基类：在三种不同继承方式下基类成员对于派生类的可访问性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5.8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直接基类和间接基类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5.9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在派生类中使用构造函数和析构函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5.10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把派生类对象隐式转换为基类对象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5.11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继承在软件工程中的意义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5.12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复合和继承的比较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5.13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对象的“使用”关系和“知道”关系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5.14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类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Point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Circle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Cylind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六章 虚函数和多态性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.1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虚函数和多态性的基本概念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.2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类型域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语句：使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语句处理对象类型域所产生的问题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.3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虚函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.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象基类和具体类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.5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态性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.6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实例研究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.7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类和动态联编：在程序中增加新类时多态性的工作原理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.8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虚析构函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有关运算符函数的描述中，错误的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       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运算符函数的名称总是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perat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前缀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运算符函数的参数可以是对象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运算符函数只能定义为类的成员函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在表达式中使用重载的运算符相当于调用运算符重载函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whil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循环的主要区别是（ ）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循环体至少无条件执行一次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循环控制条件比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循环控制条件更严格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允许从外部转到循环体内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-whil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循环体不能是复合语句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虚基类的声明中正确的是（ ）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lass virtual B: public 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lass B: virtual public 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lass B: public A virtu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irtual class B: public 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一个类的成员函数前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tat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关键字修饰，则该成员函数（ ）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可以被声明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nst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没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hi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针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可以访问该类的所有成员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只能用对象名来调用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面叙述不正确的是（ ）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基类的保护成员在派生类中仍然是保护的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基类的保护成员在公有派生类中仍然是保护的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基类的保护成员在私有派生类中仍然是私有的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基类的公有成员在公有派生类中仍然是公有的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一个函数无返回值，定义时它的函数类型应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 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任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无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考试形式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考试题型：选择、判断、问答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标要求：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5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基本概念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5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理解程序片段的功能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5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推演程序运行的结果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5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编写简单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程序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来说明类中私有成员的关键字是（ ）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rotected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rie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类的析构函数是在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 )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用的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类创建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创建对象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删除对象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不自动调用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数组定义中错误的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 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har s[5]="ABCDD"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har s[6]="ABCDD"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har s[7]="ABCDD"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har s[]="ABCDD"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各类函数中，（ ）不是类的成员函数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构造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析构函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友元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拷贝初始化构造函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1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面关于类的对象性质的描述，正确的是（ ）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对象之间不可以相互赋值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不可以说明指向对象的指针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对象不能用作多维数组元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一个对象能用作另一个对象的成员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关键字中，（ ）不是类中定义数据成员使用的关键字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n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exter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3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 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语言的有效标识符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_No1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N0.1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345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4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一个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oo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变量，则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 &amp;&amp; 5&lt;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值（ ）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值相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值相反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以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.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形式访问派生类对象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基类成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其中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  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私有继承的公有成员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公有继承的保护成员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公有继承的私有成员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公有继承的公有成员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6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语句中错误的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  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nst int a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nst int a = 1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nst int *point = 0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nst int *point = new int(5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一章 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C++</a:t>
            </a: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基础知识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1 C++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语言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语言的关系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2 C++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单行注解：两种注解方式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3 C++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输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出流：熟练应用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4 C++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的声明：声明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语言中的一种语句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5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建立新的数据类型：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truc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enu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新的数据类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6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函数原型和类型检查：函数原型说明的必要性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联函数的概念、优点以及定义方法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7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定一个类的构造函数为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(int aa,int bb) {a=aa++; b=a*bb++;}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则执行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X(5,5)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语句后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.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.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值分别为（ ）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8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一个类，可以对一个操作符进行（ ）种重载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种以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种以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多种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9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已经声明了函数原型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id fun(int 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uble b=0.0)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则下列重载函数声明中正确的是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 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id fun(int a=8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uble b=0.1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t fun(int 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uble B).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id fun(double 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t B).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ool fun(int 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uble b=0.0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下定义数组中错误的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 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t a[10];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t a[2][20]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t a[20][];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t a[]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3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对派生类的描述中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 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错误的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一个派生类不可以作为另一个派生类的基类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派生类至少应有一个基类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基类中成员的访问权限被派生类继承后可以被改变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派生类的成员除了自己定义的成员外，还包含了它的基类成员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76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4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面函数模板定义中不正确的是（ ）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6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empl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6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F(F y){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6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eturn F+y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6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6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emplat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6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F(F y){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6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eturn y+y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6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" name="矩形 3"/>
          <p:cNvSpPr/>
          <p:nvPr/>
        </p:nvSpPr>
        <p:spPr>
          <a:xfrm>
            <a:off x="4788000" y="2016000"/>
            <a:ext cx="259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emplat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F(T y)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eturn y*y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empl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F(T y)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eturn y&gt;1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关于对象数组的描述中错误的是（ ）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对象数组的下标是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的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对象数组的数组名不是一个常量指针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对象数组的每个元素是同一个类的对象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对象数组可以赋初值，也可以定义后赋值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1403280" y="189000"/>
            <a:ext cx="753120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读程序，写出程序运行的结果，并回答问题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#include&lt;iostream.h&gt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lass Samp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ample(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ample(int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~Sample(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id display(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rotected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t x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1403280" y="189000"/>
            <a:ext cx="753120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ampl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=0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ut&lt;&lt;"constructing normally\n"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ample::Sample(int m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=m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ut&lt;&lt;"constructing with a number:" &lt;&lt;x&lt;&lt;endl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id Sample::display(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ut&lt;&lt;"display a number:"&lt;&lt;x&lt;&lt;endl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1403280" y="189000"/>
            <a:ext cx="753120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ample::~Sample(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ut&lt;&lt;"destructing\n"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id main(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ample obj1; //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语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ample obj2(20); /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语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bj1.display(); /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用成员函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bj2.display(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  /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程序结束前调用析构函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请写出类中一共有几个构造函数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语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运行会调用哪个函数，请写出函数名字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程序运行的结果是什么？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一章 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C++</a:t>
            </a: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基础知识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1.8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引用参数：传值和传引用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1.9 const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限定符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1.10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动态内存分配：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new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delete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运算符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1.11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默认参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1.12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单目作用域运算符：：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1.13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函数重载的意义、使用方法，函数调用和函数定义之间的对应原则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1.14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连接说明的概念，达到识记程度。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1.15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函数模板的意义、定义与使用方法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 txBox="1"/>
          <p:nvPr/>
        </p:nvSpPr>
        <p:spPr>
          <a:xfrm>
            <a:off x="1403280" y="189000"/>
            <a:ext cx="753120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nstructing normal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nstructing with a number:2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isplay a number: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isplay a number:2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estruc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estruc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1403280" y="189000"/>
            <a:ext cx="753120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读程序，写出程序运行的结果，并回答问题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#include &lt;iostream.h&gt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lass 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(int r1,int r2) {R1=r1;R2=r2;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~R(){cout&lt;&lt;"destructing\n";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id print(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id print() const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rivat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t R1,R2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1403280" y="189000"/>
            <a:ext cx="753120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id R::print(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ut&lt;&lt;R1&lt;&lt;":"&lt;&lt;R2&lt;&lt;endl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id R::print() con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ut&lt;&lt;R1&lt;&lt;";"&lt;&lt;R2&lt;&lt;endl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id main()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 a(5,4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.print(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nst R b(20,52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.print(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1403280" y="189000"/>
            <a:ext cx="753120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程序中有两个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rint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函数，其中一个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ns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修饰，请问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ns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作用是什么？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写出构造函数和析构函数的函数名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程序运行的结果是什么？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1403280" y="189000"/>
            <a:ext cx="753120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引用类型变量作为函数参数，编写对三个变量进行按升序排序的函数，在主函数中输入三个变量的值，输出排序后三个变量的值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1403280" y="189000"/>
            <a:ext cx="753120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#include &lt;iostream.h&gt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id sort(int &amp;a, int &amp;b, int &amp;c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{    int tem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f(a &gt; b) { temp=b; b=a; a=temp;}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比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，则交换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f(b &gt; c) {temp=b; b=c; c=temp;}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比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，则交换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f(a &gt; b) {temp=b;b=a;a=temp}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可能第一个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没有执行，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而执行第二个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比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1403280" y="189000"/>
            <a:ext cx="753120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id main(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{   int a, b, c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ut&lt;&lt;"Please input a, b, c: "&lt;&lt;endl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in &gt;&gt; a &gt;&gt; b &gt;&gt; c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ort(a, b, c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ut &lt;&lt; a &lt;&lt; "," &lt;&lt; b &lt;&lt; "," &lt;&lt; c &lt;&lt;endl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1434960" y="692280"/>
            <a:ext cx="7499520" cy="55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810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谢谢！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810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810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2018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06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二章 类和数据抽象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2.1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面向对象的基本概念和面向对象程序设计的基本思路，使用数据抽象的优点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2.2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结构的定义：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语言中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struct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的定义方法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2.3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访问结构的成员：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语言中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struct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的成员访问方法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2.4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用结构实现用户定义的类型：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语言中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struct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的方法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2.5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用类实现抽象数据类型：与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struct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相比具有的优点以及方法上的区别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2.6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类的作用域和访问类的数据成员和成员函数的方法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二章 类和数据抽象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2.7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接口和实现的分离：类的接口和实现的分离的意义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2.8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控制对成员的访问：类成员访问方式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public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priva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2.9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访问函数和工具函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2.10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初始化类的对象：构造函数的特殊语法与功能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2.11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在构造函数中使用默认参数：类对象的多种初始化的方式，构造函数的重载以及构造函数使用默认参数的方法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2.12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析构函数的使用：语法与其定义的一般功能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二章 类和数据抽象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13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用构造函数和析构函数的时机：不同作用域和生命期的类对象的构造函数和析构函数的调用时机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1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数据成员和成员函数的使用：类的使用方法、数据成员和成员函数的访问方法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15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返回对私有数据成员的引用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16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逐个成员拷贝的默认赋值方式：默认赋值运算符的含义以及可能存在的问题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17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软件的可重用性：如何实现软件可重用的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三章 类和数据抽象（二）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.1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类的其他性质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.2 cons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对象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ons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成员函数：软件工程最低访问权原则，理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ons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类对象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ons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类成员函数的意义、定义方法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.3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复合：把类作为其它类的成员：用复合进行软件重用，熟悉复合类的定义方法、构造函数的参数指定方式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.4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友元函数和友元类的使用方法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.5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使用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thi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指针的意义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.6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动态内存分配：运算符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new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.7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类的静态成员的作用、使用方法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.8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数据抽象和信息隐藏的含义和作用、抽象数据类型的描述方法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.9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包容器类和递取类的含义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四章 运算符重载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1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算符重载的意义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2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算符重载的基本知识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3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算符重载的限制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4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作类成员的运算符函数和用作友元函数的运算符函数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5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载流插入和流提取运算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6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载单目运算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0T03:15:20Z</dcterms:created>
  <dc:creator/>
  <dc:description/>
  <dc:language>en-US</dc:language>
  <cp:lastModifiedBy/>
  <dcterms:modified xsi:type="dcterms:W3CDTF">2018-12-07T01:18:2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822959990</vt:lpwstr>
  </property>
</Properties>
</file>