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AE6D-4050-4DD9-80C3-FF7EF876742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8DD-F24B-4103-99E8-C1A2EE94E66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F38-5BB7-4D9A-899E-BD1A076F1E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82E-30A9-4C9C-9478-C029655D51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01F-636D-4A13-BE90-D5AB0C24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4D3-C74D-4E16-A88E-5EE5CA4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0EF3C-D3FD-4A60-ACBB-AA100015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2F5F-D11A-4560-BF01-EA146D6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9E99-3067-48AF-8DC8-2D4B1CE1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9D0A4-022E-4CAF-9652-5F5008C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BE54D-4BD6-4ABB-ADEA-7BB3B77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8C39-5603-424C-B006-9C7A2B4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DB6C-BFB7-44DF-9E8B-918121B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0464-499A-42F5-9365-22CCE599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C2DCB-79BC-454B-9B20-B061022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A304E-7534-4DCC-8DA6-284EAED9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DF1-7DC6-4952-A2F3-7554E5FF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7218C-B039-4B82-BFBC-9E0EC1DF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98AD5-1288-4CDD-A925-62F8600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CD059-2B38-4DE9-8386-C3F99458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29341-868D-4027-8B37-08980BCD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83B4E-FF00-4AEF-B673-88D2AEA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58F8-5272-487D-BFA7-BC4448F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6C8F7-CED8-4FAC-82A1-C6791C72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54B2D-480A-4277-B72E-ACAAD1A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38C8F-E19F-489F-9690-FF563570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CAC5D-B1B5-46C3-B82A-7511BEC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4A3-3A36-4736-9A0A-7BC36DEE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F61B7-08BA-48CD-8B33-047C07D8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F8387-6805-4059-9122-5A443BFA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D025-C688-4B22-9853-F70C6AA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76A9-B06B-4EF6-8289-20B7A37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0316-40C4-4202-B6FF-99FD09B0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DE1A8-02D5-4AEF-A14A-7B6FD60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F386F-4451-46A3-A056-6A2D95E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50F24-C128-4DD7-99BA-159A27E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304DD-C0A4-44D6-9F40-6A26480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1929F-A01D-44F8-B2BB-606F3437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A9CF-0A17-4383-BE6E-5EE77C4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C31FD-3168-4C71-98D4-A0C325F6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FBCB-DB12-4C6B-8E48-E2A1A335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3F8E2-4728-40A8-ADFF-11A8D9CC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2D2D-5384-43B4-B546-801D4767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9A3F5-F0B1-4624-94D7-93449B0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9FA77-AF25-49E4-AD40-84C316D2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5E18B-3CF1-4299-AEC7-AC05938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8DE06-7336-471A-95E9-D493767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38BC5-9361-4001-AD91-6D35E0D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442A1-1701-4470-BD7E-68B846C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7D65-CB03-4C7E-851A-8FF8B75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5FAE5-6D08-42B3-BC73-7B7B0CE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A4C53-B4A2-41B1-B6F6-F3C605F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B60F6-5FF8-46E3-8FDC-F9BF8877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D5E52-B437-402E-AAA8-BA0C4322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8ADC5-C288-4611-A122-1EE7255A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FC53-51AF-4B78-BF2F-460DFD7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18CC-2EFC-446B-BAFC-E16949E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6294-9473-4A0E-887D-01E5631B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C2CD-0241-4F9D-B110-EE42DEE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6348-430B-425F-A8B7-8A1087D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160-880A-4C8A-8D72-F2A100B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3F33-BCC5-44D0-8756-6868B78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B251-336E-44DB-9424-50266AC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8FB-0817-4C8F-BAAE-D90DF889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EBFA-FD93-4CA5-8FE2-51A51259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C79-858C-4ECF-90F8-73C82646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A626-BA38-4036-A8BF-5AE6D52C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01F1-CF95-41A9-A65C-7DA20B81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7E5B-8BA1-4945-AD1F-3253A23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927B-E08F-42B0-956D-6A1087E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8571-DD72-4591-8817-E635E7BB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744-7527-48DD-B1AA-7371D2BE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E32E-CCD9-43FB-BCD9-6ACE174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8D38-6E58-488A-9728-689B302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C15C-8179-4315-86D1-A5EFA8E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65D7-0CC6-4E1C-9E33-65AB9C8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6944-51B2-447B-8464-04AC50A6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3734-2666-4023-8397-14F63795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D87A-ED3A-484B-964B-0535C3BC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08EC-A8FF-4537-B5C8-5427A5B6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1B46-F3A8-45F8-A2D9-CF729FC5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A96F-5CEB-4695-AF1C-DA2A1DA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685-F93F-43E5-B077-036C1C1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1A9C-136D-461E-9360-413F1BC7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7833-711B-435C-A76B-75B275D1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4FB5-C7CB-4240-91A7-987DCE9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6EA79-5EF5-4661-BB8B-8C24523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6724-BBAB-4D81-98DD-7125F97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9E67-8BB2-46BC-877D-B3DEB6D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072F-1F58-4E9B-97DB-81D2DE86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10A7-38DF-47D0-80BA-4F585A22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B314-EFE9-4B94-A17A-8294E90D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594B-3EF8-430B-8852-5B35C232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A9D-F84B-425D-92EE-5003561D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6B5F-FE32-4B68-B90E-9A19530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E38F-D963-490A-89DA-098CEF5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F4C9-3453-40F2-8440-D142A0AB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5D2A-0AC0-4F30-BC3F-EC857B0E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2E4F-7C77-4AA8-979D-518C9BD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D2DE-4C6E-4C99-BA57-B10BB91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9408-CE63-4714-AE80-EBA3858E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D9482-347B-477C-82CE-E78CD25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8596C-A332-4E18-BB2E-2D17BB98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2A19-9AF7-45A9-9925-5B9DF92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ACB-CB9C-4E92-BB1F-5163F62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5ADD-AADC-4BEE-911B-B6EB239B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B9DB2-80A4-4824-A88D-32D125F6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233D-D7D5-4117-8779-23020FD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1559-1719-4843-ACC3-39075D0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ED5C-B201-4101-A4B1-B41709C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02C5-32B8-4822-90FD-BCDF0E5B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D08CA-A629-466F-A703-B53235D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98EFF-8436-4616-9EB9-24EE938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FC03-59FA-4A59-832F-00F818B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5871-C387-434F-9918-8CE64C1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7EE-E6D3-4FBC-BC6E-E73F7C7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5511-92AF-418D-AF11-B337EBE4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8935-B02C-4DFC-BC7B-CE637A9F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B188-6448-4C8E-8995-F919386F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A6C4-D72C-4A24-8E75-7ECCEFB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C645-9443-4A4F-A780-4EC3E59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D8DC-7529-440E-B498-6CF1667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8B31-A63F-4EFD-8172-2965224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9048-AF55-41CF-A0B3-529544CE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CF34-346B-48F5-B44C-B667AF4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C50E-4AA8-4CEA-A7FB-0A1F51A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2FF-2ADD-4671-94F7-27788C1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9E6E-3258-40AE-8F41-3E0F2FAD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CCB1-9294-4933-AF3B-72A4C22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536D-47DA-44F6-B544-8361CADB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20D1-6458-4BCA-B3DD-6E61B663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D2080-C97B-481D-8D66-6AD59304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0FA48-CABC-4CFF-A834-830242BA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5219-CBD0-4FE4-BA8A-41DE1E9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14BC8-3584-469A-90CE-0393AF5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6560A-BA35-4043-8E17-1095974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D86E-5A09-4C6A-9240-3FFF3AAF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771-CF2A-43A4-8B41-EC0E39D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63D2-D9AD-4D64-9FBB-526DDD2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7751-69ED-475A-9AD4-C9234FC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9988C-40B7-43C1-BB03-24805D7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9B03-F62F-4A22-8FB4-7304FCA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6BB5-6A25-4226-9C19-5797701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AF6A-4DD5-41F9-B22F-EAF88C4A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2A776-F608-451C-9FBC-0C70AAC9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26929-C3FA-4CFB-9EDC-AF797057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6283-2FE7-4C06-9F0C-4187017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BF35F-F530-4CCA-ACB3-9A77C5BD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41EB-4723-4551-87F7-E182A7004EE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DDA-194B-480C-8DE9-FBD27F5B2C05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4A3C-BEB1-4BED-A0AA-3836F6BC80C7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6DF-0BD9-4176-85A4-BFC2C742E2E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F50D-71A2-4ED7-BA48-0BE5BF870D8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D495-2F8E-4AC8-B831-EBDE8A74EB1A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06E8-D147-425E-ACDA-F47385360DD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F12-EA9C-4421-ADEB-C9611E4B709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BB5-0B61-43F4-909B-F04552577538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7ED-9763-408A-8473-60F56BDA5F2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3A9-4F9B-469F-AAAB-8BBAB4CE84A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82BD-87B4-4BEB-B976-2E1955DA5325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C</a:t>
            </a: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语言程序设计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的函数调用语句中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un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的实参个数是（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unc(f2(v1, v2),(v3, v4, v5),(v6, max(v7, v8)))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有定义语句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ar s[10]="1234567\0\0"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则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len(s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值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s[ ]={"aeiou"}, *p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s=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intf("%c\n",*ps+4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A) 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B) 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) 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D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[4]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地址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选项中，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大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奇数时，值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达式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 x%2==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)  x/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%2!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)  x%2=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int aa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*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*t=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++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--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etur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-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以下关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a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函数的功能叙述正确的是 （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求字符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长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比较两个串的大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将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复制到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求字符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所占字节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int a=1,b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("%d,",b=a+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("%d\n",a=2*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,2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har s[]={"012xy"};int i,n=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for(i=0;s[i]!=0;i++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if(s[i]&gt;= 'a' &amp;&amp;s[i]&lt;= 'z') n++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rintf("%d\n",n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	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har c1,c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1='A'+'8'-'4'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2='A'+'8'-'5'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rintf("%c,%d\n",c1,c2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已知字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码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程序运行后的输出结果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,68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#includes &lt;stdio.h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int a=1,b=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for(;a&lt;8;a++) {b+=a; a+=2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 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＂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%d,%d\n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＂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,a,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,14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任意输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整数并存入数组，求出其中的最大值、次大值、最小值、次小值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试形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题型：选择、判断、填空、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考查方式：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基本概念的掌握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程序片段的理解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程序功能的实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要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熟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实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i,j,num[10],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i=0;i&lt;10;i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canf("%d",&amp;num[i]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i=1;i&lt;10;i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j=0;j&lt;=10-i;j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num[j]&lt;=num[j+1]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=num[j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m[j]=num[j+1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m[j+1]=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ntf("%d %d %d %d ",num[0],num[1],num[9],num[8]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编写一个复制字符串的递归函数，用于完成串拷贝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a[10];char b[10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i=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ts(a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a,b,i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ts(b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char a[],char b[],int 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[i]!='\0'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a,b,i+1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[i]=a[i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简单程序设计的步骤和顺序是，首先确定数据结构，然后确定算法，再编码，并上机调试，最后整理文档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户所定义的标识符必须以字母或下划线开头，大、小写字母代表不同标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名代表的是数组所占存储区的首地址，其值不可改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算法的空间复杂度是指算法在执行过程中所需要的计算机存储空间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被调试程序进行“错误定位”是程序调试的必要步骤，程序调试也称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bu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件测试应严格执行测试计划，排除测试的随意性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对文件的读（写）操作完成之后，必须将它关闭，否则可能导致数据丢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指向某二进制文件的指针，且已读到此文件末尾，则函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eof(fp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返回值为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正确的字符串常量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\\\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ab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ympic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选项中不属于字符常量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'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C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\xC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\072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定义语句中正确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int a=b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ar A=65+1,b='b'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oat a=1,b=&amp;a,c=&amp;b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ouble a=0.0;b=1.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有定义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 a[2][3]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以下选项中对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元素正确引用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2][!1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2][3]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0][3]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1&gt;2][!1]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>Dino</dc:creator>
  <dc:description/>
  <dc:language>en-US</dc:language>
  <cp:lastModifiedBy/>
  <dcterms:modified xsi:type="dcterms:W3CDTF">2018-12-13T02:40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