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0CE-5BEE-42DA-A39D-88846505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5F7-D812-4530-B565-30C44B87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B80BC-2037-411A-9B90-AFCC3968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A4C02-C697-4CBE-9F04-EBDC4D49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5863E-AE7F-40D4-B714-38BC084B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58661-1B59-4AB1-8965-C1110812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BFF9A-602D-46DD-93A7-56C61D73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EB756-B8EC-4A43-BF45-0A6D586D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60382-0F0F-476A-B7A1-1D22FF52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A5F77-8009-44F3-86DA-F78D1C60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5D29A-92DD-4275-BF17-84546068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284BF-1818-44B6-B1EC-5A7BD80C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E93-4DB7-478B-8DF1-B4EFF634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7E503-14E3-4198-833F-D814640B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0A21A-4C02-4460-B935-0462E577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8A60D-DD3F-4022-86C8-24710961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87A2B-E20C-4494-930E-D5C11705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9C62F-58CD-490C-8F1B-C5640642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582A0-EDD6-4722-8BA6-2FBD20BF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51FCE-391F-4193-BF46-4517E7BF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3A677-C398-44AE-A8B0-F1A534A4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DDE18-A207-41F9-9A2E-C27E80C9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4B184-D241-44A3-A10E-6DE63FF6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4DD-A81E-4614-B0B9-30100BDB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F32B7-2F7B-441C-B364-F64F7C2F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0A1AE-1083-4D02-8F40-419E45EF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68677-6E7D-4078-98A0-F6826BB0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AC1A5-63EC-4B9A-9D3A-BC3D6C99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10761-B3E7-48B9-8913-41845990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ABC0F-B001-400B-83A9-B07A4158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48A21-F55E-42F4-AF4C-A438E1B2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C65F4-1A26-49B6-A638-6767EF74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17209-C866-43AC-B4D6-90B4C87C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F35BD-C375-412E-BDCB-87241C07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545F-0A43-4650-9E97-94BE4D8C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A128B-B9C2-491C-90D4-C84A6724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1E922-C68A-444B-9FA3-37A3130D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2977F-6613-495F-BAC0-B9DF295C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5DD9D-EBBD-4AFD-A4F9-5E888EB9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01333-79A7-44F9-9E3E-FBD142E2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0B78B-5390-4DFF-AE63-186E550D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F77FD-8FDB-4C11-88B5-5365E933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D8968-9844-420C-9651-36851721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A21A5-7D09-4486-9607-A7F01FA3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206DA-F061-4AEC-B2CE-D85229C0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8854-5385-4167-AE32-BE77B673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32B62-C3A9-4F0B-BD88-7B6F9434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189E0-13AE-45E5-B407-B91DADCE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14BBD-A600-4D9F-AF09-7F90DB7C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21ED2-7C02-4A86-AC3F-DADE3126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B9BDD-7DFC-4B97-97E0-832B4D98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F6203-C0CF-4710-A472-3B5277BA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FBE75-10ED-40A6-8BDC-52EC4AB2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BCDC6-B664-4A09-980D-8FD921D9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F928AE-3E1F-4EE0-9198-56AFA22F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A560D-A742-433C-B7C0-814B3941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D02E-BE10-4E99-9779-96D6D755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F6C60-F494-4A80-AC14-006BBC4E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A648D-6A88-427A-87E3-4792AA16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AC978-EA31-42F6-94C9-33018DBE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25732-A4BA-40F4-9E73-06DD545A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E8A7A-9B11-4CE9-81C0-2BFAE2E9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34F17-20F6-4E15-9621-0F4B8B3A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D6B3DD-D811-4084-B44B-5A63FA8C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30214-F491-4F74-8E2C-21879D72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809BC-0D73-4660-93B8-AD49A6DB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E9A9B-FD55-4751-997D-10595C9B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9850-90FC-4674-9B67-024D07C9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42EB6-1147-484B-958C-4085AD1A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661880-B251-42F2-81C5-171E5A2A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777901-F9C0-4DD3-8FD6-101B2341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D2654-7431-4E25-AD52-32987C33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97F01-2A8D-49AF-92C6-9FCECAA8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4CAB2-C1C3-4EC5-9103-75815217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FBC393-C952-4D66-9555-BCE8AA3E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4600A3-9FF5-4C94-BDDA-7C25AB44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498A4F-3FFD-4C63-A9A3-BFB923B6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450BDB-46EF-4988-BD51-A73722D7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B7F3-1261-4409-8893-D7D4A28A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0AFEE9-3F90-4774-BF69-5EFA9059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F2DC7-0CD2-4A9C-9675-F37C1E97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89D03-F47A-45AC-A2FE-6AA43FF6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155AB-E129-4CA9-B047-F392DB52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B05445-17BA-4D37-B8A2-A4B5240C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E8F0F2-8735-443D-A911-DA168CA4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4A4468-58D2-41D9-9492-BC50022A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DCCF45-FF00-4589-9CD3-ED5EC1B1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02806A-C6BF-4A5E-92D8-F662C2D7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19B5A-2503-4684-92BF-8C30F4BF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6C11-81A7-4463-BE6C-F3F3EA52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67E5CB-4BCB-41B5-9ABA-4BF1E25C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791AA0-D848-4C2C-BF3B-90E18E62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4D9926-CC14-451B-8974-72B897E0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44A791-972F-4A2E-A146-8DD8BAC7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E357D5-3976-40BA-805F-24C2F983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58764F-8AC8-4081-8624-E41CDA39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279B97-0904-451C-B0F2-786EFD9A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F670F4-84BB-4C6A-8528-416C96F7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90014-5518-495E-BC10-335AD460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DEBBC-93C1-4635-979F-D6E8D75E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E469-0A41-4D73-8FCF-2FBCD746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16DC23-E74D-4063-AAEF-7327516A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825D1D-3724-4E61-A207-18655DA1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D66BBE-2649-4561-9783-0BA2DA21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329A8F-4B70-46DD-9DF6-1503136C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185487-5CC3-4A14-9EBA-11574CA9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0388F-060D-4A75-889C-A233D56D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F8FAC8-A9E5-4A02-AE70-3F0AB2F7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67966A-3AAF-4EE7-83C3-F256E7A6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4C3AA5-F4B1-43B8-8EA8-64764F20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81D416-B1E6-4305-BC3A-29F489A8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8DC9-6286-4AF5-80C3-45CE6BE0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17A8-6AFB-45B0-8F44-61AD903E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7D70A9-7EC6-4833-93D5-2D3EE77A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30B33D-67A9-4D66-81F8-20AAD334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2FFAFB-B480-4374-93BF-3EBF41D1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428C6-DC58-4508-A3E7-68FDB6DC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7705F7-98ED-4352-B509-9379935A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E50C-228F-401D-8710-C4A24DD4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0ACF-9521-4C16-9CC9-303E0362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834C-63D1-4D7D-B9E8-41865B8E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1183-B75B-4123-A275-95873368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0C469-C32F-4FF1-BA53-FE0EA5B6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AE4A-9727-46B0-81EF-2F4B4C90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4F028-FAD7-4863-ABF2-A4FE137A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1B5E7-5EC2-4E68-9AAB-C2BDFAE6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75D9-2CC6-42BC-837D-ECE87126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5EB0-988A-4DE9-8790-BB923257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F9AA0-93BC-461A-9A16-FBFC191A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867EF-02E3-4D41-8399-F92F2DB1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3DE08-944A-44DA-9ABE-08FBE76E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22B4E-6EE8-4712-8F1F-70963BEB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F2692-4B88-407C-8425-CF083912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7C5D9-43D3-4C99-BDC8-89AB46FC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5CD5-B09E-4E8D-8BBE-98198A10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2B66A-7ECE-49C0-90EF-3239C94E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DFB37-23E6-4155-9A8F-4B7445B6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AE64E-B1A4-4CA5-8CAA-1CF14315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BC9-CC63-4437-A564-1E289083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4A242-0807-4110-BCE3-E78DEDF0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23047-20F2-4379-BC2C-D905047E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E2464-A18F-49B2-874A-1B8D8C6B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195B5-2B97-431F-8F0E-21B4C89C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DA215-9020-40D1-A839-598B6EB5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3DC40-A25D-451B-8357-1BE217D7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78FDD-2D47-45D2-834D-3CBDFCC1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98CC7-364F-4C7D-A6E6-081EA0E6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71C70-0E7D-47FD-A850-9C7606FD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29E51-F5B8-4D88-9C69-646FFF4C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373-8218-4A7C-A6C0-E52A2E35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42625-4362-4B66-87DA-28776881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54B2A-58C3-4F1D-8F3B-7FD32232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8572C-8CB5-4BE4-B975-2F3139D0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B86A6-C883-4F33-947D-032E5A8B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C59F7-E3FF-488D-990D-8270CD6B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57B43-0899-4506-8D4E-AF8F8B9E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CE333-0128-4549-BB07-4BDBB5ED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97A04-A74F-4579-A244-E4B2237A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2BA9B-8054-4949-93FE-F1B3B255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01C49-7109-4C3C-80EA-024D76CE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3E6-0E4C-46B9-AC1F-FE7B2B5E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8ACCA-3C75-4A04-B3B6-69FF74E0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110B9-14CE-4A73-9065-27DF2D8D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5BCE6-A994-4CD9-9A10-A61A3EB9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BBF58-07FB-430D-B37E-0F88C712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3B272-8614-48E1-A73A-955DD438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DCB7E-220C-406B-A20F-EC278A5B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5DB8B-5C25-422A-874E-77460105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6E956-9F3F-4AAC-981F-8A2F2896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9753B-FB3C-4198-A3F9-7B46D4E1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B5A02-8ECE-44D4-B912-AD506B2B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3D5-B795-45B1-81D1-05FF7426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34417-7DCE-4147-BDA3-93CFF36E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7F8AC-7B87-4A2D-AAAE-551F4429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13D62-579B-4C13-8C5D-C6EFDD05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24941-4023-455E-9059-FCC45C1F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53341-D385-4947-9CE9-71CD3CFB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57D8B-C18F-4212-A432-0CF6D40B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A6077-9FFC-4A7D-8EE2-25AA51E9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8C3F2-F4D3-42B6-B0D3-476D7504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84E82-6B58-40CA-961F-BA423470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54DD8-3BB2-490F-84D7-F46E92ED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C53-7BE8-4C70-B2FF-AFE229A1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4309E-35A7-4CE5-B8A1-731A293E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C2F36-0D1E-43AE-8C80-A5FB0B56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D14E7-B394-4515-A538-66E418A5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1D7F9-D5E9-4C1E-B715-64AA236B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BEB2F-B5EC-4242-97FF-C087EC06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D000B-C35F-40E9-BD4D-EFC7372A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63108-AFA4-446C-A38F-9473FB82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121FB-4335-485C-815B-1142A126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2DF17-335F-49B8-B58C-AC55B2E9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3D81A-9A7D-4011-AE0A-5313B86F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B3F-014D-4C46-B56B-4C47EE1E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FD37B-FD6A-4F23-A1BC-5C12A72A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4AEA1-62AA-4FEB-BA3B-CBA1B98B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7A148-02BC-4116-BA30-9B74BE1B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9DBC3-9D72-4308-A1D8-8E51F389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85244-B2B1-432C-ADB2-2CD2FAE3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9492D-B2FD-4DAB-BE93-18D273B0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A1039-E25F-4BFA-A19A-2A603C8A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921D9-27C3-4E86-809A-2721B08A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A2BEB-35BF-4A75-8D6A-1CF75299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EE128-9619-47C9-8536-7AF1658E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23CB-8540-4D30-8F3D-438483AAA9D4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B97F-27B1-45C9-ADDD-BCED924A9641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AEC0-F723-4409-92AE-3C5D9B21D742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A377-B1F9-456C-8F33-CE410A114A23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5D83-62BD-420F-8632-B848C0B4A7BB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D0AD-D270-4DE4-961D-8B1261346DD5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ADA5-426D-42F3-A130-C2E03A331E42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AF0E-9AF1-4B54-AE48-7E21B877E601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CA67-577C-4981-A160-863E00CABB41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39A9-F8EE-4D99-B015-9A0E8940BDDF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9780-B4E3-4C15-B3CD-E3932A0A67F8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97B6-B1E8-45D0-85EE-C9483904D080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CF57-09DC-4F46-BA89-DB7507216784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45CA-F2EC-43BD-A6F8-9BA2801E2980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3D7E-E246-43EA-BEB2-8406AAF619FF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74A4-59B8-44C9-AF47-81FF83A70861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1B2F-1A58-4AAF-9BB3-152E47891452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WordArt 5"/>
          <p:cNvSpPr txBox="1"/>
          <p:nvPr/>
        </p:nvSpPr>
        <p:spPr>
          <a:xfrm>
            <a:off x="2567160" y="1484280"/>
            <a:ext cx="7200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n-ea"/>
              </a:rPr>
              <a:t>经济法考前串讲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  <p:sp>
        <p:nvSpPr>
          <p:cNvPr id="1177" name="矩形 1"/>
          <p:cNvSpPr/>
          <p:nvPr/>
        </p:nvSpPr>
        <p:spPr>
          <a:xfrm>
            <a:off x="3119400" y="4621320"/>
            <a:ext cx="6095880" cy="8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Gothic"/>
              </a:rPr>
              <a:t>杨桂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2018.12.14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Century Gothic"/>
              </a:rPr>
              <a:t>  </a:t>
            </a:r>
            <a:r>
              <a:rPr b="1" lang="zh-CN" sz="4000" spc="-1" strike="noStrike">
                <a:solidFill>
                  <a:srgbClr val="262626"/>
                </a:solidFill>
                <a:latin typeface="Century Gothic"/>
              </a:rPr>
              <a:t>消费者权益保护法</a:t>
            </a:r>
            <a:r>
              <a:rPr b="0" lang="zh-CN" sz="40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206388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1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消费者概念和特征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2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《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消费者权益保护法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》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的宗旨和原则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3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消费者有哪些权利？具体表现类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4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经营者有哪些义务？具体表现类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5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承担赔偿责任的主体和归责原则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821960" y="228600"/>
            <a:ext cx="85410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 u="sng">
                <a:solidFill>
                  <a:srgbClr val="262626"/>
                </a:solidFill>
                <a:uFillTx/>
                <a:latin typeface="Century Gothic"/>
              </a:rPr>
              <a:t>第四编</a:t>
            </a:r>
            <a:r>
              <a:rPr b="1" lang="zh-CN" sz="4000" spc="-1" strike="noStrike">
                <a:solidFill>
                  <a:srgbClr val="262626"/>
                </a:solidFill>
                <a:latin typeface="Century Gothic"/>
              </a:rPr>
              <a:t>：宏观调控法律制度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774440" y="1483920"/>
            <a:ext cx="8713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1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我国的财政法体系（收入和支出）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2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预算的审查批准和执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3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国债的特征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4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税收的特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5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我国的流转税范围（增值税、营业税、消费税、关税）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6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所得税的范围和个人所得税的税率及减免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7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我国的税收管辖权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  </a:t>
            </a:r>
            <a:r>
              <a:rPr b="0" lang="zh-CN" sz="3600" spc="-1" strike="noStrike">
                <a:solidFill>
                  <a:srgbClr val="262626"/>
                </a:solidFill>
                <a:latin typeface="Century Gothic"/>
              </a:rPr>
              <a:t>银行金融法律制度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1919160" y="1483920"/>
            <a:ext cx="83678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 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中央银行的地位和职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2 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商业银行设立要求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3 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商业银行与中央银行的关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4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政策性银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Century Gothic"/>
              </a:rPr>
              <a:t>经济法考试题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单选题（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20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分，每题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分）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多选题（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分，每题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分）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判断对错题（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分，每题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分）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案例分析题（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40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分）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问答题（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20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分）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Century Gothic"/>
              </a:rPr>
              <a:t>经济法体系各部分的比重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第一篇：  经济法总论                    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1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第二编： 市场主体法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                     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第三编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: 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市场规制法                     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5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第四编： 宏观调控法                      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Century Gothic"/>
              </a:rPr>
              <a:t>第一篇  经济法总论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198108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经济法概念的由来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2. 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经济法的定位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3. 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经济法的体系和法律渊源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4. 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经济法律关系的三要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Century Gothic"/>
              </a:rPr>
              <a:t>第二编  市场主体规制法律制度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1809360" y="1499760"/>
            <a:ext cx="8572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经济法主体的类别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经济法管理主体的职权与责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经济法中的企业法律形态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企业的设立条件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5.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个人独资企业的特征和设立条件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6.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个人独资企业投资人的条件、权利和责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7. 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合伙企业的特征和设立条件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8.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合伙企业的法律问题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84788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Century Gothic"/>
              </a:rPr>
              <a:t>公司与外商投资企业法律制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847880" y="141300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公司的概念和特征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2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公司的分类： 股份有限公司与有限责任公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母子公司和总分公司的区分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4 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公司的设立原则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5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公司的合并与分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6 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外商投资企业的管理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（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）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股权比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（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2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） 管理机构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（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）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分配利润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7.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中外合资企业与中外合作企业的区别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 u="sng">
                <a:solidFill>
                  <a:srgbClr val="262626"/>
                </a:solidFill>
                <a:uFillTx/>
                <a:latin typeface="Century Gothic"/>
              </a:rPr>
              <a:t>第三编 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:</a:t>
            </a:r>
            <a:r>
              <a:rPr b="1" lang="zh-CN" sz="3600" spc="-1" strike="noStrike">
                <a:solidFill>
                  <a:srgbClr val="262626"/>
                </a:solidFill>
                <a:latin typeface="Century Gothic"/>
              </a:rPr>
              <a:t>市场竞争法律制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1981080" y="1630080"/>
            <a:ext cx="82296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1 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竞争的作用和立法模式 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2 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发达国家的竞争法的立法状况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3 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不正当竞争行为的概念特征及其具体表现形式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4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假冒行为、商业贿赂、商业诽谤、虚假宣传、不当有奖销售、侵犯商业秘密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5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垄断的概念和特征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6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反垄断法一般规制对象和特征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Century Gothic"/>
              </a:rPr>
              <a:t>垄断协议：分类（横向和纵向）和表现、豁免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Century Gothic"/>
              </a:rPr>
              <a:t>滥用市场支配地位：市场支配地位的界定标准及滥用的表现形式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Century Gothic"/>
              </a:rPr>
              <a:t>经营者集中：类型及审查申报标准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7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行政垄断的特征、表现及规制对策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8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反垄断法的适用除外原则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1" lang="zh-CN" sz="3600" spc="-1" strike="noStrike">
                <a:solidFill>
                  <a:srgbClr val="262626"/>
                </a:solidFill>
                <a:latin typeface="Century Gothic"/>
              </a:rPr>
              <a:t>产品质量法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199224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1 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产品的界定 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2 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产品质量监督管理制度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3 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生产者、销售者的产品责任和义务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4 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产品责任与产品质量责任的区别  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5 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产品缺陷和瑕疵的区别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6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产品缺陷赔偿责任的构成要件及赔偿范围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7 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缺陷损害赔偿责任的归责原则 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3T09:53:48Z</dcterms:created>
  <dc:creator>ibs</dc:creator>
  <dc:description/>
  <dc:language>en-US</dc:language>
  <cp:lastModifiedBy>海峰技术</cp:lastModifiedBy>
  <dcterms:modified xsi:type="dcterms:W3CDTF">2018-12-17T00:40:16Z</dcterms:modified>
  <cp:revision>5</cp:revision>
  <dc:subject/>
  <dc:title>经济法考前串讲</dc:title>
</cp:coreProperties>
</file>