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gif" ContentType="image/gif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D973-E153-430C-9136-BD2561DAD7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24CF-7994-451D-AC9E-571C34ED28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7A52-0B2C-4810-9EBC-FC0F442CBB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AAE8-85FD-408D-8713-A8EE6E46A7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21E4-6FDB-4960-94C7-5539E2B28F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6E31-76DC-4ABB-9F38-5A425D0867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0151-EF24-4DF2-A23B-FA363FDB27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24F2-8CD9-46B6-9897-E519A078F8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8688-B5F3-4D6E-B5B8-2FEE6F9DC4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中日软件恳谈会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8D08-207B-4271-B8E1-A8DD190E6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C679-EAE4-4E73-8B08-9B9012EC4B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EB93-C112-4E55-B155-238CF0C2BE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127C-5F3B-4160-9F2F-646BFBB16E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0EA5-AE24-41FA-BF94-6E0BE964B4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564B-C1FD-4206-9016-DBC3B48E32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D5FC-EC57-4B6F-AC90-B68ADD0079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EAB7-13D9-483F-BF56-56B5FBCA66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AE3-9D07-479B-8C82-1EA7B62E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C15-431F-4318-9662-0FF1857D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3B7C9-B378-4314-950D-C35B147C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EAAC7-0F81-4143-BE4F-A027ACF5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91E95-E4B6-40C6-AF46-314F3BCC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CF6AE-F2FF-4A5C-BB50-20442B8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28251-AAB0-4487-AEB5-85620092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723AB-7314-404A-B50E-3F63C893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8F467-7833-4C88-8BC6-02CE1882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D4A4C-7DC0-440D-9A9F-318B1F02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CC0F6-C4F5-447F-AE6C-C6C60A22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0C725-124A-4113-96B3-D16C0AD9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2FE-28D8-4B90-A323-DB7CB843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043CA-1D00-4D74-AEA3-DDBA0C21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6FFE0-06A6-490D-8AB2-AC875C36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A298B-DE3B-4A10-860E-0318B0BD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DF33D-8576-4267-8041-C5414F1F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72A11-347A-470B-A0B1-7E1C088E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A1D0A-C438-4077-92E7-9FF3B3F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EDEFB-64E5-47E8-BC84-21ACA78F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D0A92-F951-482F-9F0F-9FE81440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C708C-19C3-4E72-8942-340E33F2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7D615-43D6-474A-B4A4-10BC35CE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7ED-5657-4DEC-BB91-1809FC3E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9BEEB-FABF-4EC3-B56B-A95AF06A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0E6D5-1405-4876-8190-2EA9BD81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5CB50-619F-4B7D-B94D-0D57F2A6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5DCA2-258D-48E3-B7D3-21135F7A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37FD2-5F82-4240-B84F-B6AC6CEF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E2E86-B6A3-4808-A87E-57E36693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FB068-4F68-4DFC-BEE0-854E29BC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C46FF-2AF7-44FE-B8B0-AB963D56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95A28-9B21-4556-82E1-A659AF8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835EF-8B5C-454A-90C1-9DFFC3A8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54B3-B6BE-4824-9068-07E45445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E7C9E-4A78-494D-B406-607B81D4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F5EE0-BA1F-46E6-A393-0D64C322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872D3-1E25-4924-A79F-E59C6601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11C4-13D8-426D-A3F7-E52329BE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7610-0ED3-46DE-BC55-0EC03FE6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1D80-ED74-43A1-8CAE-831316A2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D5EA-C581-40A4-A40E-B1B7977A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A7DD-6A9F-4B30-ABB3-F4A921E6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32FC-20B9-40BA-8C87-1CB7DFAF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00E-54F0-473E-A608-1EB2DA60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89AB-AF2D-44C7-B18E-D7FA1D51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00CD-228A-4122-8EC7-1FCF7433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7F3C-2FD2-49FD-B552-C804F295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7FF0-1F46-4B4F-86A1-F2175C72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1C8A-545E-45D9-862A-B121DCE5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D530-C38A-4BF4-B504-3DD10D88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0CA0-353A-44ED-8B3C-0E49ED1F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5452-2AD4-437C-AC7B-22C3CA0F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B2A2-8799-4181-84AC-94EC764E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660A8-2262-469F-B035-566FA9CA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8C5-70E0-4616-8C9E-CA63CB1F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5ADB0-0E25-4359-A730-00A35570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5983-6B93-4D98-8B8D-9A44C82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FFED-CE37-4F20-9E78-9B2E45BC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00A1-34D0-4526-9169-1824C2E5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7542E-99EE-40C9-ADFD-8D980C00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D187-3390-4AF0-96AC-84637679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1970-0F43-4191-B34C-3ED68758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6465B-53B8-471C-A551-F5C499BC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1888A-3E4B-4C72-9EA8-F498A01D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A0BA-3E01-480D-BEDB-29FE3BE1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BD7-7654-4170-A937-E0AFBE60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E790D-33E3-4DFB-9263-AD6691E9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B6D6F-9B97-464C-BEDD-09084EF9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1623-50E3-4BAD-B912-D28496C4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19CC-E993-4F04-AD38-CF81E008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414E1-B48C-48FB-BE27-1C2D3948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0489D-9A82-4FB3-A099-E025A13D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CE999-56AB-4A4B-9636-4BA110A8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E97C-B904-4620-8823-994DF423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586F5-DD64-4FCB-812C-CB922EE8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F25E1-197C-4B4C-A95C-CDD4B987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BC7-5B9B-4DFD-A3B0-B291598C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F1FFD-24B9-48AE-8237-E0194CF7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967D9-A525-4725-BFEB-D31E2069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419AE-EF2F-41E2-B5D3-C4138A34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AD843-AB42-49BF-A889-15A85FA7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9D47A-79CF-4D75-87C2-CFEFF8F2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05181-FB69-4BD4-8413-82E36A06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70C5E-9A10-457D-A82A-725034C6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896E4-053E-4B4E-948A-8368AE0C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1C3D3-D375-4AC1-8ACF-EFA834C7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26025-4C96-4DD0-B1F1-31883D3E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80B-9C74-42CA-84B8-037E29C0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CE976-F891-47B8-BD87-FB89F084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81993-7D89-4A95-9903-84BF00F7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EEE15-ABD0-46E1-9AB5-CFB32EE2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1DA56-E15D-42E2-B8A8-B00AB699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B2CCC-7D11-4E48-85D1-22B1F9D6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4F142-DCAA-4AC8-9D06-244A4399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00887-C234-4878-ACF0-DC8E65E7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66EB9-CF7D-43BF-B776-CEDD24FC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9E80F-D993-4541-ADE8-2E5F4D2D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E946B-0742-4C50-B608-02F4C777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8AE-4FBC-48AF-9775-D15E411C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F85E7-BFE6-4179-BD5B-FB370607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E9C7D-B606-4A75-8DF9-254A0AB6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B2486-8F95-4A5F-BED8-D14696DA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06BD7-58A1-4B17-9666-7117B198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FA4B3-16E9-4A0D-98AF-58F6D248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06E99-209D-4A2C-8D94-F6113D4E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EAC82-85FF-4377-949D-45816E36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B409-7E54-4972-9F84-20BC224F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92D8B-C0B7-43B1-9C48-384057AB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1BBFE-53BE-4251-811B-21599A4B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7AB-2C51-438A-BB1D-9FFD20C2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731B1-BA6A-4ED6-9686-38B3EC13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66C2E-4839-44F6-A68D-C70524A6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E5FCD-03BD-40AC-850A-F7397CBA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B2F3B-2410-4241-8B63-A979B88D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D3F85-6580-4BCA-84A7-639CDD28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2D33E-A341-4FE5-8057-6265E3C5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F3741-3E18-4AA0-83DE-85153E0F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CD468-1DB4-4D0A-963B-661A1892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06281-5182-49F5-B805-B60F8868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C4B0A-103E-4180-81FC-CFC3A8B4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391-CBA5-4821-85D6-499C249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54ACC-8442-4F43-B636-593B7F1A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3DFF1-11D7-4B76-A2DE-F24CF5C0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2982D-4EDB-440B-8BCD-8349763A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C1943-B73A-4335-A7B6-BD9DA61A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7D3D9-DBBE-45B2-977C-28E38157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4E387-3F3C-4A7D-9359-758EE924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85B98-46A2-4172-8E76-AF7B954C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070E2-E848-4626-8F3F-A3FB43E5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7B1B6-4EF9-4DFB-B5FE-E27BD6B8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B046E-B367-4925-9347-1BCAC576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07CC-8185-415B-98D5-92A790A2B78C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4E7F1DBA-E4ED-4BC0-919C-5B7117C285D8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16DB-6B13-4A1E-B006-27A5FD5E844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E0A3-35BD-4F21-80BB-A420B03478E6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5CDA3173-2CE3-4F19-913B-2D81CFE2856E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222A-25F9-40C9-AF32-8ADD04B1C54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BA61-126A-4165-BF0B-EADA334D3A72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86A37293-BD0D-4D6C-ACB6-BCB2B1C85011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4EF2-FAE6-42E9-A0E0-C7FFB786441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995640" y="6273720"/>
            <a:ext cx="5148360" cy="58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8EC-1AE6-407C-B575-694E80D28D28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A368129D-84AE-4112-A475-A8413A13C3AD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64CD-421D-4743-B68F-269EF397503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9FEA-8FA5-4370-8188-886844CE95E2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366A-CAB4-4DF2-B79F-7C2E4C351645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A7C33922-E810-41F5-A5FC-8D312D28576D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12FA-A422-4E94-B666-662EAB55BDB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CB70-814A-4541-9004-28A719852678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8DA005A0-91B0-4F79-AFC9-672C7AE21B6E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C37D-8742-4DE1-9D36-A5DFE66659D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531E-ED01-4FB2-B4F9-9FCE504EEC88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8E2AE234-0B2A-451B-AE99-3E2416BBEADA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07B1-905F-4FCE-85ED-A66808FE7B4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61E4-6C4A-404B-8F34-818213B80135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A3DED656-0CE9-4FC6-890B-6D1E4AA30537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5E77-F102-4969-844F-80327841670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FCFC-B5EA-4B86-9A48-D6613E3567F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D6DD-F61E-4B31-BBA0-6F839AAE8CB3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FE6E9617-860A-47B6-8E35-AA8FAAC183E0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333A-2D5D-4935-8508-8110189E1C4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4032360" y="6273720"/>
            <a:ext cx="5148000" cy="58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WordArt 10"/>
          <p:cNvSpPr txBox="1"/>
          <p:nvPr/>
        </p:nvSpPr>
        <p:spPr>
          <a:xfrm>
            <a:off x="1476360" y="2384280"/>
            <a:ext cx="58341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据结构复习提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755640" y="1600200"/>
            <a:ext cx="74883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单项选择题（每题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3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填空题（每空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计算题（每题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10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4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阅读算法题（每题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1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1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题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468360" y="549360"/>
            <a:ext cx="8458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单项选择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法分析的两个主要方面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空间复杂度和时间复杂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正确性和简单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可读性和可操作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程序复杂性和数据复杂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在计算机存储器内表示时，物理地址与逻辑地址相同并且是连续的，称之为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存储结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逻辑结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顺序存储结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链式存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2"/>
          <p:cNvSpPr/>
          <p:nvPr/>
        </p:nvSpPr>
        <p:spPr>
          <a:xfrm>
            <a:off x="239760" y="1268280"/>
            <a:ext cx="660564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某算法的语句执行频度为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n+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+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+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其时间复杂度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)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)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线性表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情况下适用于使用顺序存储结构实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需不断对Ｌ进行按序号查找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需不断对Ｌ进行删除插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Ｌ中含有大量的结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Ｌ中结点结构复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以下数据结构中哪一个是线性结构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二叉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"/>
          <p:cNvSpPr/>
          <p:nvPr/>
        </p:nvSpPr>
        <p:spPr>
          <a:xfrm>
            <a:off x="576360" y="1376280"/>
            <a:ext cx="628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二叉树是非线性数据结构，所以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它不能用顺序存储结构存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它不能用链式存储结构存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顺序存储结构和链式存储结构都能存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顺序存储结构和链式存储结构都不能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无向图中，一个顶点的度是指图中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通过该顶点的简单路径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与该顶点相邻接的顶点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通过该顶点的回路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2"/>
          <p:cNvSpPr/>
          <p:nvPr/>
        </p:nvSpPr>
        <p:spPr>
          <a:xfrm>
            <a:off x="468360" y="981000"/>
            <a:ext cx="6389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单链表中，指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指向元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结点，实现删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后继的语句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. p=p-&gt;next;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. p-&gt;next=p-&gt;next-&gt;next;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. p-&gt;next=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. p-&gt;next-&gt;next =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设将整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,2,3,4,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依次进栈，最后都出栈，出栈可以在任何时刻（只要栈不空）进行，则出栈序列不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3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 54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3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5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. 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．下面程序的时间复杂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=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&lt;=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+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t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(j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&lt;=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++) t=t+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=s*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2"/>
          <p:cNvSpPr/>
          <p:nvPr/>
        </p:nvSpPr>
        <p:spPr>
          <a:xfrm>
            <a:off x="216000" y="1268280"/>
            <a:ext cx="664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等概率的条件下，采用顺序查找的方法查找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线性表时，查找成功的平均查找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n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. (n+1)/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(n-1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队列元素的进出原则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先进先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后进先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队列空则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队列满则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顺序表的第一个元素的存储地址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每个元素的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元素的存储地址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102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.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1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. 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"/>
          <p:cNvSpPr/>
          <p:nvPr/>
        </p:nvSpPr>
        <p:spPr>
          <a:xfrm>
            <a:off x="142920" y="1413000"/>
            <a:ext cx="671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无向图的邻接矩阵是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.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对称矩阵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下三角矩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上三角矩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对角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已知一个有序表为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，则折半查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需要比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. 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. 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 填空题（每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，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设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均为空，先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进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再将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的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元素顺次出队的元素进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再将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的元素逐个出栈，并将出栈元素顺次进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则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状态是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decba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无向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邻接矩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[i][j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等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[j][i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等于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一个单链表中删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指结点的后继结点时，应执行以下操作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 = p-&gt;next;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-&gt;next=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q-&gt;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;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叉树的前序和中序遍历序列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惟一确定这棵二叉树（填写能或者不能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个串相等的充分必要条件是两个串的长度相等且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1079640" y="2708280"/>
            <a:ext cx="6697440" cy="30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算法的时间复杂度与空间复杂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执行频度与时间复杂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物理地址与逻辑地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数据元素之间的关系有哪些；线性结构包括哪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2158920" y="1592280"/>
            <a:ext cx="5005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绪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二叉树的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层上最多有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lang="en-US" sz="3200" spc="-1" strike="noStrike" u="sng" baseline="30000">
                <a:solidFill>
                  <a:srgbClr val="ff0000"/>
                </a:solidFill>
                <a:uFillTx/>
                <a:latin typeface="Arial"/>
                <a:ea typeface="宋体"/>
              </a:rPr>
              <a:t>i-1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节点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若以邻接矩阵表示有向图，则邻接矩阵上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行中非零元素的个数即为顶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出度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邻接矩阵上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列中非零元素的个数即为顶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入度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结点所构成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叉树有种形态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树内各结点度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最大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称为树的度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在初始为空的队列中插入元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,b,c,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后，紧接着做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次删除操作，此时的队头元素是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b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046160" y="2338560"/>
            <a:ext cx="845820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611280" y="225108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对象 2"/>
          <p:cNvGraphicFramePr/>
          <p:nvPr/>
        </p:nvGraphicFramePr>
        <p:xfrm>
          <a:off x="5508720" y="3033720"/>
          <a:ext cx="20574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3033720"/>
                    <a:ext cx="20574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矩形 4"/>
          <p:cNvSpPr/>
          <p:nvPr/>
        </p:nvSpPr>
        <p:spPr>
          <a:xfrm>
            <a:off x="1440" y="1251000"/>
            <a:ext cx="55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三、计算题（每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，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"/>
          <p:cNvSpPr/>
          <p:nvPr/>
        </p:nvSpPr>
        <p:spPr>
          <a:xfrm>
            <a:off x="1032480" y="1882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某不带权有向图如下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6"/>
          <p:cNvSpPr/>
          <p:nvPr/>
        </p:nvSpPr>
        <p:spPr>
          <a:xfrm>
            <a:off x="250920" y="2338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给出其邻接矩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画出该图的无向图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求该图的无向图的广度优先遍历序列，以结点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开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对象 2"/>
          <p:cNvGraphicFramePr/>
          <p:nvPr/>
        </p:nvGraphicFramePr>
        <p:xfrm>
          <a:off x="619200" y="3860640"/>
          <a:ext cx="156204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200" y="3860640"/>
                    <a:ext cx="156204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对象 4"/>
          <p:cNvGraphicFramePr/>
          <p:nvPr/>
        </p:nvGraphicFramePr>
        <p:xfrm>
          <a:off x="2763720" y="3816360"/>
          <a:ext cx="2371680" cy="13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6" name="对象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3720" y="3816360"/>
                    <a:ext cx="237168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矩形 5"/>
          <p:cNvSpPr/>
          <p:nvPr/>
        </p:nvSpPr>
        <p:spPr>
          <a:xfrm>
            <a:off x="827280" y="5913360"/>
            <a:ext cx="25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广度优先遍历序列：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BGFC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2"/>
          <p:cNvSpPr/>
          <p:nvPr/>
        </p:nvSpPr>
        <p:spPr>
          <a:xfrm>
            <a:off x="576360" y="368280"/>
            <a:ext cx="59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写出用直接插入排序将关键字序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54,23,89,48,64,50,25}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排序过程的每一趟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)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规模的数据元素进行递增排序，请分析插入排序在最好情况下的时间效率是多少？为什么？最坏情况下时间效率是多少？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"/>
          <p:cNvSpPr/>
          <p:nvPr/>
        </p:nvSpPr>
        <p:spPr>
          <a:xfrm>
            <a:off x="582480" y="2492280"/>
            <a:ext cx="665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键字序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54,23,89,48,64,50,25}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直接插入排序过程如下：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54],23,89,48,64,5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],89,48,64,5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],48,64,5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,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],64,5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五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,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],5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六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,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]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七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,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好情况下，原始数据已经按照关键字递增排序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，此时时间复杂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(n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；最坏情况下，原始数据是按照关键字递减排序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，此时时间复杂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(n^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2"/>
          <p:cNvSpPr/>
          <p:nvPr/>
        </p:nvSpPr>
        <p:spPr>
          <a:xfrm>
            <a:off x="647640" y="1341360"/>
            <a:ext cx="621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设有一棵二叉树，它的中序和后序遍历结果如下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中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   4   3   5   6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后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   6   5   3   2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请画出该二叉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该树的深度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对象 2"/>
          <p:cNvGraphicFramePr/>
          <p:nvPr/>
        </p:nvGraphicFramePr>
        <p:xfrm>
          <a:off x="4557600" y="2744640"/>
          <a:ext cx="1905120" cy="27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0" y="2744640"/>
                    <a:ext cx="190512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Rectangle 6"/>
          <p:cNvSpPr/>
          <p:nvPr/>
        </p:nvSpPr>
        <p:spPr>
          <a:xfrm>
            <a:off x="4546080" y="5662440"/>
            <a:ext cx="2100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该树的深度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2"/>
          <p:cNvSpPr/>
          <p:nvPr/>
        </p:nvSpPr>
        <p:spPr>
          <a:xfrm>
            <a:off x="644400" y="347760"/>
            <a:ext cx="621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已知一棵二叉树的先序序列：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BDGJEHCFIK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中序序列：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JGBEHACKIL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请回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写出二叉树先序遍历的定义。（简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写出二叉树中序遍历的定义。（简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问这颗二叉树的根节点是哪个节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具体画出二叉树的形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755640" y="2529000"/>
            <a:ext cx="7456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序遍历的定义是：若二叉树为空，则结束遍历操作；否则访问根结点；然后先序遍历根的左子树；最后先序遍历根的右子树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中序遍历的定义是：若二叉树为空，则结束遍历操作；否则中序遍历根的左子树；然后访问根结点；最后中序遍历根的右子树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根节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二叉树的形态如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7" descr=""/>
          <p:cNvPicPr/>
          <p:nvPr/>
        </p:nvPicPr>
        <p:blipFill>
          <a:blip r:embed="rId1"/>
          <a:stretch/>
        </p:blipFill>
        <p:spPr>
          <a:xfrm>
            <a:off x="4575240" y="4076640"/>
            <a:ext cx="17683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2"/>
          <p:cNvSpPr/>
          <p:nvPr/>
        </p:nvSpPr>
        <p:spPr>
          <a:xfrm>
            <a:off x="395280" y="101592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阅读算法题（每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，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下面是实现：假设已经存在一个顺序表，将该顺序表逆转。其中已经存在的顺序表用数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表示，顺序表的元素个数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最后将逆转的顺序表继续存在数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问：数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第一个元素的存储地址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每个元素的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则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元素的存储地址是多少？写出计算公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问：在该顺序表中，查找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元素的时间复杂度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将缺少的代码补充完整，并分析算法的时间复杂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void simsort(  ElemType b [ ], int n 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  ElemType  a [n];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辅助存储空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 (i=1; i&lt;n; i++) a [i]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1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）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b[n-i+1]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 (j=1; j&lt;n; j++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2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）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b[j]=a[j]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上面算法需要辅助的存储空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，即数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[n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请设计一种算法，实现与上面算法相同的功能，但只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辅助存储空间，设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请写出该算法。如下给出了该算法的算法名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算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void simsort(  ElemType b [ ], int n 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  ElemType  x;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辅助存储空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请在这里将算法补充完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"/>
          <p:cNvSpPr/>
          <p:nvPr/>
        </p:nvSpPr>
        <p:spPr>
          <a:xfrm>
            <a:off x="5364000" y="515772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(i=1; i&lt;n/2; i++)  (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{    x=b[i]                   (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[i]= b[n-i+1];     (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[n-i+1]=x;    }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14" descr="母版_图片2"/>
          <p:cNvPicPr/>
          <p:nvPr/>
        </p:nvPicPr>
        <p:blipFill>
          <a:blip r:embed="rId1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3" descr="谢谢大家"/>
          <p:cNvPicPr/>
          <p:nvPr/>
        </p:nvPicPr>
        <p:blipFill>
          <a:blip r:embed="rId2"/>
          <a:stretch/>
        </p:blipFill>
        <p:spPr>
          <a:xfrm>
            <a:off x="3816360" y="2168640"/>
            <a:ext cx="4753080" cy="13316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鞠躬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863640" y="1484280"/>
            <a:ext cx="219708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863640" y="2529000"/>
            <a:ext cx="7021440" cy="36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知道顺序表的特点（存储空间是连续的，元素是按逻辑顺序存放的）；会写顺序表的插入和删除算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知道链式存储空间的特点（存储空间是可连续可不连续，元素之间的逻辑关系可不一致，但由指针域确定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会写线性链表的插入和删除算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395280" y="1557360"/>
            <a:ext cx="874872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线性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1187280" y="2349360"/>
            <a:ext cx="6697800" cy="36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知道栈的特点（先进后出）；会写进栈与退栈算法，入栈与出栈序列；栈顶元素的变化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理解队列的特点（先进先出），知道队头与队尾指针指向何处；会写循环队列的入队与退队的算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1511280" y="1557360"/>
            <a:ext cx="576108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栈和队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187280" y="2349360"/>
            <a:ext cx="6697800" cy="36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串相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空串和空格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1511280" y="1557360"/>
            <a:ext cx="576108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4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187280" y="2816280"/>
            <a:ext cx="6697800" cy="30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会用二叉树的性质，不要求证明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二叉树遍历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给出二叉树的前序序列和中序序列，能画出二叉树，并能写出后序序列（考查学生会三种遍历的思想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会写三种遍历算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树的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0"/>
          <p:cNvSpPr/>
          <p:nvPr/>
        </p:nvSpPr>
        <p:spPr>
          <a:xfrm>
            <a:off x="1079640" y="1592280"/>
            <a:ext cx="608472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5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树与二叉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1800360" y="2928960"/>
            <a:ext cx="6697440" cy="302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理解图的概念，会求完全图（有向，无向）的边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对一个图能画出其关联矩阵和邻接表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,(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能理解图的二种存储结构的思想；不要求算法实现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；画有向图的无向图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能写出图的二种遍历（深度 广度）结果，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考查思想，不要求算法实现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顶点的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5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图的入度和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2808360" y="441360"/>
            <a:ext cx="392436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6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1116000" y="4257720"/>
            <a:ext cx="6697800" cy="20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折半查找的比较次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有序表的查找次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1908000" y="297000"/>
            <a:ext cx="5329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7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查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332000" y="1881360"/>
          <a:ext cx="6095880" cy="2286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81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顺序查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对分查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二叉排序树查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存储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  链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链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是否有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都可，适合无序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要求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但中序排序后是有序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Rectangle 55"/>
          <p:cNvSpPr/>
          <p:nvPr/>
        </p:nvSpPr>
        <p:spPr>
          <a:xfrm>
            <a:off x="1851480" y="1351080"/>
            <a:ext cx="21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知道三种算法的适合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1116000" y="4257720"/>
            <a:ext cx="6697800" cy="20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0"/>
          <p:cNvSpPr/>
          <p:nvPr/>
        </p:nvSpPr>
        <p:spPr>
          <a:xfrm>
            <a:off x="2411280" y="2421000"/>
            <a:ext cx="518508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8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排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3241800" y="3451320"/>
            <a:ext cx="411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能写出三类排序算法中最基本算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冒泡排序的思想，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直接插入排序的思想，过程，分析时间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简单选择排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5:18:13Z</dcterms:created>
  <dc:creator>边长生</dc:creator>
  <dc:description/>
  <dc:language>en-US</dc:language>
  <cp:lastModifiedBy>CDX</cp:lastModifiedBy>
  <dcterms:modified xsi:type="dcterms:W3CDTF">2017-04-14T08:47:50Z</dcterms:modified>
  <cp:revision>623</cp:revision>
  <dc:subject/>
  <dc:title>2001年1月25日学院督导研讨会</dc:title>
</cp:coreProperties>
</file>