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gif" ContentType="image/gif"/>
  <Override PartName="/ppt/media/image1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A3F1-45D2-49E5-99BB-5F5ABE9DD8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C4AB-8C19-4E13-B986-FD6DE8BF60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5774-4B2C-4582-8428-409C92B8D6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FED9-ED8C-4A00-82E2-25210DD543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8F6-9E0C-4B79-B5A8-D08E14AC6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8F7-6EE3-4110-8278-E5D7B53DC9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4F82-A6E9-47FA-A687-F8A15928A2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4FFC-DF81-4BB3-812A-EF5BBA1C99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中日软件恳谈会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3A97-5997-4208-8728-4E052EE7B5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AC7E-BBBE-4D9C-8374-B44AFF80AE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418F-C3F5-494C-9F65-22436ACF80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14ED-FF16-458D-87D7-32616FB7E4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9DF2-6C8A-4FCA-93D6-276FD985A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8432-82E2-4895-9E35-7085D9C70E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53B-C922-4AAB-B8FD-9190C4D7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708-37BD-4F5A-9CDC-D4568B47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AAF41-01B0-4A36-AC70-1E69DD56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2DF24-B180-4991-A076-BBDFFCF5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55C84-6427-45CA-9D5C-2B302B06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294BF-1B69-441B-AE02-BDA13A4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3CA2F-E5D0-4B2B-9888-A9BC490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477A2-755C-4990-BFD7-2B15105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1927E-CCD7-49CE-9D26-66F8EB27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AFC0A-0E4E-4262-8A38-05F75552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0FB37-4434-417C-BDEE-1AC4D792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D7BC2-E8AD-4958-A136-DB6F49B9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089-C844-4DBB-B09C-63A1228D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7F626-1155-480E-A6D9-647DAF93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DD8D4-F36D-4420-A7CE-44A69BBE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DF759-7E15-45C8-AA6D-F708455B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EB924-DE64-442B-AB97-4122678E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06A26-5A74-402D-88C0-45920353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4602C-A570-46C6-A897-B522E721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9CD3D-2C30-4F1A-B335-22779B8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2DD8F-A95B-4A36-B22C-AFEEE09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D92AA-EB15-4269-88F1-6EDBDBC4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FDCB8-E1AA-4116-A2CB-31D89470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90D-8D28-4264-ABA0-D0ACC4C8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40431-C3AB-458D-A6DE-7FF42275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9CCD8-24A5-440D-B3A7-3DCA7978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C052A-303F-44E3-9132-92589AEF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8A2ED-0919-4414-9A17-84589820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0229-EB4D-42D7-952A-E89B5318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8CEC-5C35-445E-B5ED-B2AEE080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4A2ED-DFCF-4E64-B945-B3A24285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6C734-BD24-42A7-8E78-DD9E6992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6CBCF-EA81-42CD-B459-BC73299A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D19C5-ECA1-4637-8138-55A2F6B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574E-ADC9-4028-9B1F-D3FC3A5E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83C6E-A13E-4ED2-9318-0BB7D5AE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B80DF-1228-4F12-8DF9-46A3D129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3277A-46A5-4518-9E86-2874B218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9CAC-7B2F-48FA-95FF-621FF1D4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9102-071A-4168-9806-0E14B197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7FD2-3F4A-4C21-BE1F-961954B2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30AE-60C8-453A-A1ED-4557CEFA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881C-1F90-4A32-8B2C-47B77E27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4C87-0A78-4E83-A5EA-6C6EA42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15B-AD02-4DC5-88D9-EAF0E3E4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0B55-5935-454D-8EC2-E5915CCB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4F9E-75A5-4CC2-BFD3-1D490AAD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F461-169D-4A47-8827-DE797742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8A3A-6714-496A-B343-9CD186E1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DE73-E265-42EE-BF55-0C6B072C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4EFB-F886-4144-AE49-9A4BBD23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C4CB-5575-4138-A23A-0727B2CA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E126-70E4-44FD-9F61-F35EA1D5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30CA-B51B-4C19-80D4-74CF3A9F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8F19-0C33-46DD-9630-1C921AED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2B7-BDF4-4599-ABF2-AC1D5C0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CB14-BE68-435D-AEFB-6E923CD6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4D8C-7BA4-4B04-A9A9-029C1182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BB5F-D000-428B-B5B0-3C95A367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39F5-DE0D-40D6-BFA4-80E11E2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9EEB-B6A7-4F94-9FB2-DD9A546C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975D-4DEA-4A60-84A9-2E3A92B1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ED56-6069-4D17-8015-FED22E76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96547-2A14-45D6-A901-CC435EAF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703E-2D37-4EB2-8879-36597CD4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EDE9-C921-4707-9DD1-7C99539C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BC1-1A93-4BF0-978C-F3720CDB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40FA-5BB5-4E0C-B202-97A1A556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E90A-6121-4A40-B17B-13A5270A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C7E90-A475-49BA-9305-034BE5C2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F3E3-5038-4116-8931-B9E2A6A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4D1F2-A34B-4FFE-8C3C-228EEB20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118F-C461-46BD-B173-23CE5822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8E20-05F8-49CF-96B0-528941FC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2394-CA10-4568-AFC3-39A15CF4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92B2-A44B-46D4-B29E-762E3877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A800B-CE38-4B62-9217-C261BAF4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6A2-5D9F-49D7-97AE-CCE13119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E7963-2B5D-4A20-9DB6-C067B270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8CAA-A7C4-4C95-A138-431AA4E1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B410-3378-45AB-BD59-280FDC48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2E11-A24D-40DA-930A-5FBE5E51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5BF83-5111-446E-8C13-260DFF98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4F5B4-7AF1-4BC6-8EE6-8B2BDE23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767AA-122A-4DB1-806C-6AC2CB6F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9793-5A0E-4586-9183-FB28F33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E007-B65B-4D5A-9B0F-7AF0A3C3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A6557-AAEA-4A28-A7E6-5DD80AD1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ACD-84AC-4719-B6E0-8611E27B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F5F9-D89B-4CCF-B079-643E3E76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6E9F9-C218-448A-9FF6-17A1FA45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BDAF8-38A5-424A-BF26-1A369B58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A080E-2479-4DA6-97BC-C21D999C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A2AD6-E596-49A7-BAEC-2EF2E236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7A2FC-D34A-4B13-B26C-FE655FDB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6A093-D984-45AA-B049-D8AFCBAB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A2F1-929E-4DBE-8DA3-893F031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64421-2CF6-4DE5-94B5-3BD3CA53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16B31-78B5-4367-B993-C192D31B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066-3518-45AC-8AAF-95A771AA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2F73C-6F0E-4A3D-BC10-6D69D94C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FAEC9-4CFF-4BFE-9CFC-741384AE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4BB0E-67BA-424F-86B0-B22E30CA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4BBA8-7157-4774-877E-2E425FF4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37D24-2BF1-4F7C-A2FC-AE3E92AF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6829D-9DE7-4658-B144-AB2E02B9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746CE-0B1D-4817-BCD7-BAAC7BC4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210B1-5B80-4DD5-8F40-697F5D54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3AF03-4BF1-4931-AD01-8F6BEB3A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3A673-A95B-469C-867E-85D7192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D79-AB25-4220-A259-CF544313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DF45A-7B36-4F40-9CB6-E90ED884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F761-1070-45F8-8F36-F46D125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DC5EC-E170-4FF8-A056-E9609653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19C38-9506-4E3D-803E-AF578E31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9A7E2-94B7-4CC4-81B6-70736B25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FD1CB-87B8-4DB4-878B-4C39602A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64C1-204D-41A8-8233-47448032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04500-9DC0-482A-AADE-DBDAD3A5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91D90-E49B-453C-84D6-F7D396B3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BF66A-FBD4-4F5A-8198-586C8E6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1CA-44A3-4C8D-BBD9-48EA2E2B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0ACD5-CEAC-40DD-B606-B3754B13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C1543-6515-49C9-9161-2D7BA49C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82C4B-0A6F-4258-94AD-84E27073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BDC5C-F70A-4041-A5EF-36592E2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4CE3B-0F71-4A79-A667-35733263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0D3E9-0AF2-4EC5-9333-416248EC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93B5F-93BE-428A-BBCB-AF4E1851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9B801-5B95-4CC6-A139-32351A6A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38E70-CFF4-4EF4-801A-381A912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1A027-9AAC-45D5-8E95-23D50F54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E006-A881-4258-AB8A-AB7AD04DA14F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2F067D4C-203B-4CA5-A81F-9D9215F4DAF0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D038-EE33-4E09-B97F-B49A2732FC3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EDC5-B83A-4B2B-AEB6-338D713AAD8F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DFDC54F8-5D0C-4E54-8A04-F3C688AC0E21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43DC-9EBE-4C3B-B1F6-FDC8F30C1E8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4A7C-4355-4A25-9E42-E46A05F7A289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FA24E2C4-B6AC-4362-8736-B8078A62D7E9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9593-72C4-4EA4-8645-B764C4ADA89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995640" y="6273720"/>
            <a:ext cx="5148360" cy="58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7583-CC92-4AE8-BEE1-BECE121729FE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42C15363-B815-4EAD-982B-3F307191D0BC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6AFF-982E-4BF2-BFD2-FEB33E483D3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3565-32DC-4389-B372-E4D6CB69FCE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5597-D4AA-4A2D-A3EA-AF18E253A934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6A606CC1-0D86-4C33-9081-C8BB582BE39F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5392-42D0-46E9-B058-29EFCF657B9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C388-20E9-4F61-BBB8-08E5EEF07B26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6DD16219-251F-41C0-8FC6-70347CE11FD5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1A3A-84D5-4F4C-A522-C04FF8DE0E8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1EDE-D7ED-4F8D-9D06-FDAFBF6A2AC1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A0B2E205-E8CE-4218-90D2-F889B41C637D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D279-F101-4CE3-A070-DAC0F7FD1AE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A6A1-D8AF-4A6F-B213-55753A5CCB36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B7CA112D-5997-48D2-B639-354F25849F23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2C27-5909-4C3A-A174-2A24C28CCF2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5129-565D-49EC-8742-E6E4E2B2311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C821-0CB0-4505-8281-8CCE4B4216DE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F5BC1BF4-0141-4CB8-BEA9-ACAD1C750F4D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15:3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6165-A47A-47AA-8F28-C396F6688C7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4032360" y="6273720"/>
            <a:ext cx="5148000" cy="58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WordArt 10"/>
          <p:cNvSpPr txBox="1"/>
          <p:nvPr/>
        </p:nvSpPr>
        <p:spPr>
          <a:xfrm>
            <a:off x="1476360" y="2384280"/>
            <a:ext cx="58341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据结构基础复习提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755640" y="1600200"/>
            <a:ext cx="74883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单项选择题（每题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3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填空题（每空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计算题（每题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3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阅读算法题（每题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题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468360" y="54936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单项选择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法分析的两个主要方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空间复杂度和时间复杂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正确性和简单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可读性和可操作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程序复杂性和数据复杂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在计算机存储器内表示时，物理地址与逻辑地址相同并且是连续的，称之为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存储结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逻辑结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顺序存储结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链式存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"/>
          <p:cNvSpPr/>
          <p:nvPr/>
        </p:nvSpPr>
        <p:spPr>
          <a:xfrm>
            <a:off x="239760" y="1268280"/>
            <a:ext cx="660564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某算法的语句执行频度为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n+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+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+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其时间复杂度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线性表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情况下适用于使用顺序存储结构实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需不断对Ｌ进行按序号查找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需不断对Ｌ进行删除插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Ｌ中含有大量的结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Ｌ中结点结构复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以下数据结构中哪一个是线性结构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二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"/>
          <p:cNvSpPr/>
          <p:nvPr/>
        </p:nvSpPr>
        <p:spPr>
          <a:xfrm>
            <a:off x="576360" y="1376280"/>
            <a:ext cx="628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二叉树是非线性数据结构，所以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它不能用顺序存储结构存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它不能用链式存储结构存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顺序存储结构和链式存储结构都能存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顺序存储结构和链式存储结构都不能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结点的顺序表中，算法的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的操作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访问第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个结点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1≤i≤n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和求第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个结点的直接前驱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2≤i≤n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在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结点后插入一个新结点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≤i≤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删除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结点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≤i≤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结点从小到大排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2"/>
          <p:cNvSpPr/>
          <p:nvPr/>
        </p:nvSpPr>
        <p:spPr>
          <a:xfrm>
            <a:off x="468360" y="981000"/>
            <a:ext cx="638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单链表中，指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指向元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结点，实现删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后继的语句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. p=p-&gt;next;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. p-&gt;next=p-&gt;next-&gt;next;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. p-&gt;next=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. p-&gt;next-&gt;next =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设将整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,2,3,4,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依次进栈，最后都出栈，出栈可以在任何时刻（只要栈不空）进行，则出栈序列不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3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 54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3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. 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．下面程序的时间复杂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=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&lt;=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+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t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(j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&lt;=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++) t=t+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=s*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"/>
          <p:cNvSpPr/>
          <p:nvPr/>
        </p:nvSpPr>
        <p:spPr>
          <a:xfrm>
            <a:off x="216000" y="1268280"/>
            <a:ext cx="664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等概率的条件下，采用顺序查找的方法查找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线性表时，查找成功的平均查找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. (n+1)/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(n-1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队列元素的进出原则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先进先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后进先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队列空则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队列满则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顺序表的第一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个元素的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102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.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1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. 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2"/>
          <p:cNvSpPr/>
          <p:nvPr/>
        </p:nvSpPr>
        <p:spPr>
          <a:xfrm>
            <a:off x="142920" y="1413000"/>
            <a:ext cx="671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若已知一个栈的入栈序列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…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其输出序列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…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1=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=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n-j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不确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树中，若结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兄弟，而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双亲，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度为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 填空题（每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，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设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均为空，先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进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再将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的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元素顺次出队的元素进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再将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的元素逐个出栈，并将出栈元素顺次进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状态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decb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无向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邻接矩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[i][j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[j][i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一个单链表中删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指结点的后继结点时，应执行以下操作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 = p-&gt;next;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-&gt;next=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q-&gt;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;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遍历图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方法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个串相等的充分必要条件是两个串的长度相等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1079640" y="2708280"/>
            <a:ext cx="6697440" cy="30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算法的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个特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算法的时间复杂度与空间复杂度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执行频度与时间复杂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物理结构与逻辑结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数据元素之间的关系有哪些；线性结构包括哪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2158920" y="1592280"/>
            <a:ext cx="5005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绪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二叉树的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层上最多有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lang="en-US" sz="3200" spc="-1" strike="noStrike" u="sng" baseline="30000">
                <a:solidFill>
                  <a:srgbClr val="ff0000"/>
                </a:solidFill>
                <a:uFillTx/>
                <a:latin typeface="Arial"/>
                <a:ea typeface="宋体"/>
              </a:rPr>
              <a:t>i-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节点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以邻接矩阵表示有向图，则邻接矩阵上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行中非零元素的个数即为顶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出度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邻接矩阵上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列中非零元素的个数即为顶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入度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结点所构成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叉树有种形态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树内各结点度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最大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称为树的度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在初始为空的队列中插入元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,b,c,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后，紧接着做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次删除操作，此时的队头元素是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046160" y="2338560"/>
            <a:ext cx="845820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611280" y="225108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对象 2"/>
          <p:cNvGraphicFramePr/>
          <p:nvPr/>
        </p:nvGraphicFramePr>
        <p:xfrm>
          <a:off x="5508720" y="3033720"/>
          <a:ext cx="20574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3033720"/>
                    <a:ext cx="20574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矩形 4"/>
          <p:cNvSpPr/>
          <p:nvPr/>
        </p:nvSpPr>
        <p:spPr>
          <a:xfrm>
            <a:off x="1440" y="1251000"/>
            <a:ext cx="55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三、计算题（每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，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"/>
          <p:cNvSpPr/>
          <p:nvPr/>
        </p:nvSpPr>
        <p:spPr>
          <a:xfrm>
            <a:off x="1032480" y="1882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某不带权有向图如下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6"/>
          <p:cNvSpPr/>
          <p:nvPr/>
        </p:nvSpPr>
        <p:spPr>
          <a:xfrm>
            <a:off x="250920" y="2338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给出其邻接矩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画出该图的无向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求该图的无向图的广度优先遍历序列，以结点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开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对象 2"/>
          <p:cNvGraphicFramePr/>
          <p:nvPr/>
        </p:nvGraphicFramePr>
        <p:xfrm>
          <a:off x="619200" y="3860640"/>
          <a:ext cx="156204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200" y="3860640"/>
                    <a:ext cx="156204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对象 4"/>
          <p:cNvGraphicFramePr/>
          <p:nvPr/>
        </p:nvGraphicFramePr>
        <p:xfrm>
          <a:off x="2763720" y="3816360"/>
          <a:ext cx="237168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对象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3720" y="3816360"/>
                    <a:ext cx="23716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矩形 5"/>
          <p:cNvSpPr/>
          <p:nvPr/>
        </p:nvSpPr>
        <p:spPr>
          <a:xfrm>
            <a:off x="827280" y="5913360"/>
            <a:ext cx="25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广度优先遍历序列：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BGF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2"/>
          <p:cNvSpPr/>
          <p:nvPr/>
        </p:nvSpPr>
        <p:spPr>
          <a:xfrm>
            <a:off x="576360" y="368280"/>
            <a:ext cx="594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分析下面算法（程序段），并计算每个算法的时间复杂度是多少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；以及每个算法的最大语句频度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；最大频度的语句是哪句？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1" descr=""/>
          <p:cNvPicPr/>
          <p:nvPr/>
        </p:nvPicPr>
        <p:blipFill>
          <a:blip r:embed="rId1"/>
          <a:stretch/>
        </p:blipFill>
        <p:spPr>
          <a:xfrm>
            <a:off x="934920" y="1700280"/>
            <a:ext cx="1371600" cy="730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4" descr=""/>
          <p:cNvPicPr/>
          <p:nvPr/>
        </p:nvPicPr>
        <p:blipFill>
          <a:blip r:embed="rId2"/>
          <a:stretch/>
        </p:blipFill>
        <p:spPr>
          <a:xfrm>
            <a:off x="1258920" y="3780000"/>
            <a:ext cx="1838160" cy="7016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"/>
          <p:cNvSpPr/>
          <p:nvPr/>
        </p:nvSpPr>
        <p:spPr>
          <a:xfrm>
            <a:off x="3959280" y="1916280"/>
            <a:ext cx="33843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算法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循环，循环次数分别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但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以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倍的速度增长，因此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；最大频度的语句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=i*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句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，最大语句频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"/>
          <p:cNvSpPr/>
          <p:nvPr/>
        </p:nvSpPr>
        <p:spPr>
          <a:xfrm>
            <a:off x="3959280" y="400536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第二个小题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循环，循环次数分别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其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&lt;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因此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；最大频度的语句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[i][j]=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句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，最大语句频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"/>
          <p:cNvSpPr/>
          <p:nvPr/>
        </p:nvSpPr>
        <p:spPr>
          <a:xfrm>
            <a:off x="647640" y="1341360"/>
            <a:ext cx="621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设有一棵二叉树，它的中序和后序遍历结果如下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中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   4   3   5   6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后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   6   5   3   2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请画出该二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写出该二叉树的前序遍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该二叉树的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对象 2"/>
          <p:cNvGraphicFramePr/>
          <p:nvPr/>
        </p:nvGraphicFramePr>
        <p:xfrm>
          <a:off x="4557600" y="2744640"/>
          <a:ext cx="1905120" cy="27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0" y="2744640"/>
                    <a:ext cx="190512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Rectangle 6"/>
          <p:cNvSpPr/>
          <p:nvPr/>
        </p:nvSpPr>
        <p:spPr>
          <a:xfrm>
            <a:off x="698400" y="5568120"/>
            <a:ext cx="1311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该二叉树的度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"/>
          <p:cNvSpPr/>
          <p:nvPr/>
        </p:nvSpPr>
        <p:spPr>
          <a:xfrm>
            <a:off x="276120" y="512136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二叉树的前序遍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"/>
          <p:cNvSpPr/>
          <p:nvPr/>
        </p:nvSpPr>
        <p:spPr>
          <a:xfrm>
            <a:off x="395280" y="101592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四、阅读算法题（每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，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函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GetEl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实现返回单链表的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元素，请在空格处将算法补充完整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t GetElem(LinkList L,int i,Elemtype *e){//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表示单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inkList 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t 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=L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hile(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&amp;&amp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&lt;i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　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=p-&gt;next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++j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f(!p||j&gt;i)  return 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*e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-&gt;data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turn 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2"/>
          <p:cNvSpPr/>
          <p:nvPr/>
        </p:nvSpPr>
        <p:spPr>
          <a:xfrm>
            <a:off x="71280" y="890640"/>
            <a:ext cx="864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下面的算法实现单链表的按值查找功能，请将算法补充完整。链表存储结构中，按值查找的时间复杂度是多少？（假设链表规模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tem * Link::Locatex(DataType 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tem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=head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hile(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!=NUL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&amp;&amp;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-&gt;data!=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=p-&gt;next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f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turn 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out&lt;&lt;x&lt;&lt;" is not exist!"&lt;&lt;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4" descr="母版_图片2"/>
          <p:cNvPicPr/>
          <p:nvPr/>
        </p:nvPicPr>
        <p:blipFill>
          <a:blip r:embed="rId1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谢谢大家"/>
          <p:cNvPicPr/>
          <p:nvPr/>
        </p:nvPicPr>
        <p:blipFill>
          <a:blip r:embed="rId2"/>
          <a:stretch/>
        </p:blipFill>
        <p:spPr>
          <a:xfrm>
            <a:off x="3816360" y="2168640"/>
            <a:ext cx="4753080" cy="1331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鞠躬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863640" y="1484280"/>
            <a:ext cx="219708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863640" y="2529000"/>
            <a:ext cx="702144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线性表的逻辑结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线性表的长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顺序表的特点（存储空间是连续的，元素是按逻辑顺序存放的）；会写顺序表的插入和删除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顺序表中插入元素，平均移动次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95280" y="1557360"/>
            <a:ext cx="874872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顺序存储的线性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知道链式存储空间的特点（存储空间是可连续可不连续，元素之间的逻辑关系可不一致，但由指针域确定）；适应于不断进行删除与插入操作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会写单链表的插入和删除算法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单元 单链表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879480" y="1521000"/>
            <a:ext cx="7292880" cy="50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栈的特点（先进后出）；会写进栈与退栈算法，入栈与出栈序列；栈顶元素的变化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理解队列的特点（先进先出），知道队头与队尾指针指向何处；会写循环队列的入队与退队的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已经入栈序列，写出可能的出栈序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有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个元素循环队列中，队满时具有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-1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个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循环队列的容量为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，现经过一系列的入队和出队操作后，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front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为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a,  rear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为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b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，则队列中元素的个数公式：队列元素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=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（尾指针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b-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头指针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a+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队列容量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）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%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队列容量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判断满循环队列的条件是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front==(rear+1)%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814400" y="404640"/>
            <a:ext cx="5762880" cy="75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栈和队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1187280" y="2349360"/>
            <a:ext cx="6697800" cy="36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串的定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串相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空串和空格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Str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511280" y="1557360"/>
            <a:ext cx="576108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1187280" y="2816280"/>
            <a:ext cx="6697800" cy="30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树适合用来表示元素之间具有分支层次关系的数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空树的概念；树的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会用二叉树的性质，不要求证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1079640" y="1592280"/>
            <a:ext cx="741672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6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树与二叉树的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二叉树遍历的定义；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给出二叉树的前序序列和中序序列，能画出二叉树，并能写出后序序列（考查学生会三种遍历的思想）；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会写三种遍历算法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</a:rPr>
              <a:t>7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单元 二叉树的存储与遍历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1800360" y="2928960"/>
            <a:ext cx="6697440" cy="302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理解图的概念，会求完全图（有向，无向）的边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对一个图能画出其关联矩阵和邻接表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,(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理解图的二种存储结构的思想；不要求算法实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；画有向图的无向图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写出图的二种遍历（深度 广度）结果，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考查思想，不要求算法实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顶点的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图的入度和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2808360" y="441360"/>
            <a:ext cx="392436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8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5:18:13Z</dcterms:created>
  <dc:creator>边长生</dc:creator>
  <dc:description/>
  <dc:language>en-US</dc:language>
  <cp:lastModifiedBy>CDX</cp:lastModifiedBy>
  <dcterms:modified xsi:type="dcterms:W3CDTF">2017-04-20T01:12:21Z</dcterms:modified>
  <cp:revision>642</cp:revision>
  <dc:subject/>
  <dc:title>2001年1月25日学院督导研讨会</dc:title>
</cp:coreProperties>
</file>